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dt" idx="13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ftr" idx="14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 type="sldNum" idx="15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A163CF0-0958-4607-ACEC-04632DDD5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03DC-1F25-4011-9AE9-89CFDCA48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21C9-7D12-440A-99E3-61C1235D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F927-17EA-4E3B-9A32-5726E734E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5924-66E8-4A0C-AFC7-8170EA1A7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ADAF-E284-497A-A6F6-3A9F12CCC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E939-6721-425B-B136-8D903D59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E709-0C6F-49C4-BDB9-AE3FA9E0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E2A8-F2D7-40DE-8709-36F9F279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445E-5D25-494E-8E12-2F3AFF2D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7E603-7708-462F-8A0B-28353C5B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50D4-53CE-4968-BCCB-464774CD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BF2E-AC36-4CDC-AF09-6DB3AA29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719B-0DF1-4B7B-BA3E-08ACE01F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37F7-EB8B-4ECE-81F7-B23805EE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AE2C-45D6-406B-BA11-6DA58278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C646-B72C-443E-BD8F-D5D28B8D5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A4ED-13C5-44C7-A34F-B77FC1C7B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DBB06-AC7B-4AD1-9080-5882E7759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A7733-B922-4BD5-B574-3633D860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9F17A-8D9E-42F0-BB58-4D5095D1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E3C69-B0B5-465A-BA16-E0CFC300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E4A49-FBAB-4A58-B915-9FF03966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0796-9E06-4E08-84B6-37985DDF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5304F-6F3D-49AD-9506-1A519174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74270-BF22-4CB8-B500-66C12DAB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37A39-5013-4312-B519-A6F25427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A55CA-2BF9-46EB-B8BD-FBA44A3F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E74AE-2E52-45CB-ADF9-CEAA4304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869C6-1706-4B62-812D-B4DA6AD35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8266F-E0FE-4C60-B598-CAA419F63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9D90B-273D-4462-9635-184B799CC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4D5C4-F2C3-4843-B557-BFBE751C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A490D-9F47-405D-96ED-BA30593E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976E-7DED-44FC-B66C-2260BDF6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03803-2FF1-46DB-9A85-17536935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C2172-D58A-4A98-8EDF-76C07764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EBE7D-8280-4E41-A5BB-647F7F96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F9653-7673-4549-AEDD-98669B08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606B9-46AF-4E87-8082-45E468DC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64FFD-89C9-4CD2-9A50-F7E3C181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F1FA7-18F2-4A77-BED3-08917B6F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CF132-A836-4F95-BB3E-1A9D2A741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78D06-590A-4C89-A475-C03237C78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ACA7-2EAC-40DD-AF62-8233DF98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A3F2-F6BF-4E9B-810F-8C2BBCDF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913A-3379-4B0C-9B31-777EFC19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D9E8-2B58-43DA-A097-DEB635DD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6812-5EDA-469E-A380-F002C9C5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FA45B57-2D5E-4201-BF95-1F72EC1E5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00807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1160" y="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160640" y="476280"/>
            <a:ext cx="49590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Forecasting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4680"/>
            <a:ext cx="100807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26272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23B3AD-3FC1-4B03-8C15-D875A7D81D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1160" y="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166760" y="43164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Forecasting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4680"/>
            <a:ext cx="100807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26272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7226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E66281-A79E-4BF9-9F70-E610836483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160" y="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66760" y="43164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Forecasting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4680"/>
            <a:ext cx="100807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26272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226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8932B-E8B2-4972-8903-25B3184B85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1160" y="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166760" y="43164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Forecasting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03280" y="1862280"/>
            <a:ext cx="9072360" cy="26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ttribution of the 2001-2010 global temperature platea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3280" y="5319720"/>
            <a:ext cx="929016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irginie Guemas, Francisco J. Doblas-Reyes, Isabel Andreu-Burillo and Muhammad As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392720" y="-36360"/>
            <a:ext cx="2840040" cy="13125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 : Tropospheric aerosol in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616720" y="7002360"/>
            <a:ext cx="42480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Kaufmann et al.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1224000" y="1835280"/>
            <a:ext cx="7489800" cy="43941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224000" y="6529320"/>
            <a:ext cx="88567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Arial"/>
              </a:rPr>
              <a:t>Tropospheric aerosol forcing explains about -0.06W.m</a:t>
            </a:r>
            <a:r>
              <a:rPr b="1" lang="en-GB" sz="2400" spc="-1" strike="noStrike" baseline="30000">
                <a:solidFill>
                  <a:srgbClr val="a50021"/>
                </a:solidFill>
                <a:latin typeface="Arial"/>
              </a:rPr>
              <a:t>-2</a:t>
            </a:r>
            <a:r>
              <a:rPr b="1" lang="en-GB" sz="2400" spc="-1" strike="noStrike">
                <a:solidFill>
                  <a:srgbClr val="a50021"/>
                </a:solidFill>
                <a:latin typeface="Arial"/>
              </a:rPr>
              <a:t>  since 2002  (net forcing : ~0.5W.m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60360" y="6732720"/>
            <a:ext cx="431640" cy="538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777080" y="4572000"/>
            <a:ext cx="647640" cy="144360"/>
          </a:xfrm>
          <a:prstGeom prst="line">
            <a:avLst/>
          </a:prstGeom>
          <a:ln w="936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424720" y="4481640"/>
            <a:ext cx="15112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2. S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136000" y="2771640"/>
            <a:ext cx="19447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7703640" y="3059280"/>
            <a:ext cx="50508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44360" y="2411280"/>
            <a:ext cx="21592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1. Net anthropogenic for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44360" y="4859280"/>
            <a:ext cx="2232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990099"/>
                </a:solidFill>
                <a:latin typeface="Arial"/>
              </a:rPr>
              <a:t>Anthropogenic sulf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087640" y="5003640"/>
            <a:ext cx="649080" cy="144720"/>
          </a:xfrm>
          <a:prstGeom prst="line">
            <a:avLst/>
          </a:prstGeom>
          <a:ln w="93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087640" y="2987640"/>
            <a:ext cx="2736720" cy="7923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640720" y="1908000"/>
            <a:ext cx="1224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Linear tr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7561440" y="2411280"/>
            <a:ext cx="1079280" cy="2890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535640" y="2340000"/>
            <a:ext cx="1871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Sum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1 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040360" y="2771640"/>
            <a:ext cx="5047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912000" y="5280120"/>
            <a:ext cx="576360" cy="83880"/>
          </a:xfrm>
          <a:custGeom>
            <a:avLst/>
            <a:gdLst/>
            <a:ahLst/>
            <a:rect l="l" t="t" r="r" b="b"/>
            <a:pathLst>
              <a:path w="363" h="53">
                <a:moveTo>
                  <a:pt x="0" y="8"/>
                </a:moveTo>
                <a:cubicBezTo>
                  <a:pt x="38" y="4"/>
                  <a:pt x="76" y="0"/>
                  <a:pt x="136" y="8"/>
                </a:cubicBezTo>
                <a:cubicBezTo>
                  <a:pt x="196" y="16"/>
                  <a:pt x="318" y="46"/>
                  <a:pt x="363" y="53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806560" y="1746360"/>
            <a:ext cx="53294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om observations and reco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bserved Top-Of-Atmosphere net input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3"/>
          <a:srcRect l="0" t="4941" r="0" b="0"/>
          <a:stretch/>
        </p:blipFill>
        <p:spPr>
          <a:xfrm>
            <a:off x="1224000" y="2071800"/>
            <a:ext cx="7588080" cy="458784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 flipH="1" flipV="1">
            <a:off x="7488000" y="4500360"/>
            <a:ext cx="1439640" cy="5029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209080" y="4716360"/>
            <a:ext cx="1800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Solar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3024360" y="3132000"/>
            <a:ext cx="287280" cy="1008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19280" y="2195640"/>
            <a:ext cx="288144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Stratospheric water vap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256360" y="2228760"/>
            <a:ext cx="259236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eros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616720" y="7002360"/>
            <a:ext cx="42480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Loeb et al.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224000" y="6529320"/>
            <a:ext cx="88567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Arial"/>
              </a:rPr>
              <a:t>CERES TOA input energy still positive</a:t>
            </a:r>
            <a:r>
              <a:rPr b="1" lang="en-GB" sz="2400" spc="-1" strike="noStrike" baseline="30000">
                <a:solidFill>
                  <a:srgbClr val="a50021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a50021"/>
                </a:solidFill>
                <a:latin typeface="Arial"/>
              </a:rPr>
              <a:t>during the last decade, why does not it warm the surfac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60360" y="6732720"/>
            <a:ext cx="431640" cy="538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 : Increased ocean heat upt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985080" y="7002360"/>
            <a:ext cx="28796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ehl et al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3"/>
          <a:srcRect l="8493" t="0" r="7644" b="0"/>
          <a:stretch/>
        </p:blipFill>
        <p:spPr>
          <a:xfrm>
            <a:off x="71280" y="2946240"/>
            <a:ext cx="4873680" cy="283392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2016000" y="2801880"/>
            <a:ext cx="18716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cif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1963800"/>
            <a:ext cx="1008072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osites of meridional overturning streamfunction anomalies during decades of surface temperature cooling in CCS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4"/>
          <a:srcRect l="7806" t="0" r="0" b="0"/>
          <a:stretch/>
        </p:blipFill>
        <p:spPr>
          <a:xfrm>
            <a:off x="5040360" y="3084480"/>
            <a:ext cx="5040360" cy="25970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840360" y="2801880"/>
            <a:ext cx="18720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tlant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03280" y="5708520"/>
            <a:ext cx="381636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rengthening of the subtropical cel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545080" y="5708520"/>
            <a:ext cx="381636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akening of the deep conve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24000" y="6529320"/>
            <a:ext cx="88567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Arial"/>
              </a:rPr>
              <a:t>Increased subsurface ocean heat uptake might compensate for TOA absorption during hiatus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60360" y="6732720"/>
            <a:ext cx="431640" cy="538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2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ypothe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16000" y="2195640"/>
            <a:ext cx="9361440" cy="50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 - a decrease in the stratospheric water vapour concentration (Solomon, 20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B - an increase in the background stratospheric aerosol concentration (Solomon, 2013; Fyfe et al, 20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 - the deep and long solar minimum (Kaufmann et al., 2011; Hansen et al., 20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 - an increase in the tropospheric aerosol concentration (Kaufmann et al., 2011; Murphy, 20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 - an increase in the subsurface ocean heat uptake (Meehl et al, 2011; Katsman and Van Oldenborgh, 2011; Balmaseda et al, 20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71280" y="2266920"/>
            <a:ext cx="93618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fr-FR" sz="4000" spc="-1" strike="noStrike">
                <a:solidFill>
                  <a:srgbClr val="000000"/>
                </a:solidFill>
                <a:latin typeface="Arial"/>
              </a:rPr>
              <a:t>Can we use climate predictions to assess the contributions of those various facto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76360" y="5256360"/>
            <a:ext cx="94345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uemas V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, Doblas-Reyes F. J., Andreu-Burillo I., Asif M., 2013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rospective prediction of the global warming slowdown in the pas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ade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ature Climate Chan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doi : 10.1038/nclimate186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03280" y="3132000"/>
            <a:ext cx="9290160" cy="3456000"/>
          </a:xfrm>
          <a:custGeom>
            <a:avLst/>
            <a:gdLst/>
            <a:ahLst/>
            <a:rect l="l" t="t" r="r" b="b"/>
            <a:pathLst>
              <a:path w="5852" h="2177">
                <a:moveTo>
                  <a:pt x="0" y="2177"/>
                </a:moveTo>
                <a:cubicBezTo>
                  <a:pt x="144" y="2060"/>
                  <a:pt x="288" y="1943"/>
                  <a:pt x="409" y="1905"/>
                </a:cubicBezTo>
                <a:cubicBezTo>
                  <a:pt x="530" y="1867"/>
                  <a:pt x="620" y="1935"/>
                  <a:pt x="726" y="1950"/>
                </a:cubicBezTo>
                <a:cubicBezTo>
                  <a:pt x="832" y="1965"/>
                  <a:pt x="863" y="2041"/>
                  <a:pt x="1044" y="1996"/>
                </a:cubicBezTo>
                <a:cubicBezTo>
                  <a:pt x="1225" y="1951"/>
                  <a:pt x="1558" y="1724"/>
                  <a:pt x="1815" y="1678"/>
                </a:cubicBezTo>
                <a:cubicBezTo>
                  <a:pt x="2072" y="1632"/>
                  <a:pt x="2291" y="1851"/>
                  <a:pt x="2586" y="1723"/>
                </a:cubicBezTo>
                <a:cubicBezTo>
                  <a:pt x="2881" y="1595"/>
                  <a:pt x="3313" y="1083"/>
                  <a:pt x="3584" y="907"/>
                </a:cubicBezTo>
                <a:cubicBezTo>
                  <a:pt x="3855" y="731"/>
                  <a:pt x="4014" y="771"/>
                  <a:pt x="4210" y="665"/>
                </a:cubicBezTo>
                <a:cubicBezTo>
                  <a:pt x="4406" y="559"/>
                  <a:pt x="4527" y="353"/>
                  <a:pt x="4763" y="272"/>
                </a:cubicBezTo>
                <a:cubicBezTo>
                  <a:pt x="4999" y="191"/>
                  <a:pt x="5444" y="226"/>
                  <a:pt x="5625" y="181"/>
                </a:cubicBezTo>
                <a:cubicBezTo>
                  <a:pt x="5806" y="136"/>
                  <a:pt x="5814" y="30"/>
                  <a:pt x="5852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280" y="5705640"/>
            <a:ext cx="2313000" cy="882360"/>
          </a:xfrm>
          <a:custGeom>
            <a:avLst/>
            <a:gdLst/>
            <a:ahLst/>
            <a:rect l="l" t="t" r="r" b="b"/>
            <a:pathLst>
              <a:path w="1457" h="556">
                <a:moveTo>
                  <a:pt x="0" y="556"/>
                </a:moveTo>
                <a:cubicBezTo>
                  <a:pt x="75" y="435"/>
                  <a:pt x="151" y="315"/>
                  <a:pt x="227" y="239"/>
                </a:cubicBezTo>
                <a:cubicBezTo>
                  <a:pt x="303" y="163"/>
                  <a:pt x="315" y="126"/>
                  <a:pt x="454" y="102"/>
                </a:cubicBezTo>
                <a:cubicBezTo>
                  <a:pt x="593" y="78"/>
                  <a:pt x="898" y="109"/>
                  <a:pt x="1065" y="92"/>
                </a:cubicBezTo>
                <a:cubicBezTo>
                  <a:pt x="1232" y="75"/>
                  <a:pt x="1375" y="19"/>
                  <a:pt x="1457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03280" y="6308640"/>
            <a:ext cx="2313000" cy="279360"/>
          </a:xfrm>
          <a:custGeom>
            <a:avLst/>
            <a:gdLst/>
            <a:ahLst/>
            <a:rect l="l" t="t" r="r" b="b"/>
            <a:pathLst>
              <a:path w="1457" h="176">
                <a:moveTo>
                  <a:pt x="0" y="176"/>
                </a:moveTo>
                <a:cubicBezTo>
                  <a:pt x="45" y="157"/>
                  <a:pt x="91" y="138"/>
                  <a:pt x="182" y="131"/>
                </a:cubicBezTo>
                <a:cubicBezTo>
                  <a:pt x="273" y="124"/>
                  <a:pt x="386" y="147"/>
                  <a:pt x="545" y="131"/>
                </a:cubicBezTo>
                <a:cubicBezTo>
                  <a:pt x="704" y="115"/>
                  <a:pt x="983" y="57"/>
                  <a:pt x="1135" y="35"/>
                </a:cubicBezTo>
                <a:cubicBezTo>
                  <a:pt x="1287" y="13"/>
                  <a:pt x="1390" y="7"/>
                  <a:pt x="1457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3280" y="5467320"/>
            <a:ext cx="2295360" cy="1120680"/>
          </a:xfrm>
          <a:custGeom>
            <a:avLst/>
            <a:gdLst/>
            <a:ahLst/>
            <a:rect l="l" t="t" r="r" b="b"/>
            <a:pathLst>
              <a:path w="1446" h="706">
                <a:moveTo>
                  <a:pt x="0" y="706"/>
                </a:moveTo>
                <a:cubicBezTo>
                  <a:pt x="128" y="664"/>
                  <a:pt x="250" y="622"/>
                  <a:pt x="408" y="570"/>
                </a:cubicBezTo>
                <a:cubicBezTo>
                  <a:pt x="566" y="518"/>
                  <a:pt x="777" y="487"/>
                  <a:pt x="950" y="392"/>
                </a:cubicBezTo>
                <a:cubicBezTo>
                  <a:pt x="1123" y="297"/>
                  <a:pt x="1343" y="82"/>
                  <a:pt x="1446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816360" y="6948360"/>
            <a:ext cx="1944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 flipV="1">
            <a:off x="4392360" y="608436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-71280" y="4340160"/>
            <a:ext cx="187164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5-member prediction started 1 Nov 1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44360" y="7074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03280" y="5578560"/>
            <a:ext cx="2295360" cy="1009440"/>
          </a:xfrm>
          <a:custGeom>
            <a:avLst/>
            <a:gdLst/>
            <a:ahLst/>
            <a:rect l="l" t="t" r="r" b="b"/>
            <a:pathLst>
              <a:path w="1446" h="636">
                <a:moveTo>
                  <a:pt x="0" y="636"/>
                </a:moveTo>
                <a:cubicBezTo>
                  <a:pt x="72" y="601"/>
                  <a:pt x="316" y="520"/>
                  <a:pt x="432" y="426"/>
                </a:cubicBezTo>
                <a:cubicBezTo>
                  <a:pt x="548" y="332"/>
                  <a:pt x="584" y="123"/>
                  <a:pt x="697" y="69"/>
                </a:cubicBezTo>
                <a:cubicBezTo>
                  <a:pt x="810" y="15"/>
                  <a:pt x="986" y="114"/>
                  <a:pt x="1111" y="103"/>
                </a:cubicBezTo>
                <a:cubicBezTo>
                  <a:pt x="1236" y="92"/>
                  <a:pt x="1376" y="21"/>
                  <a:pt x="1446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03280" y="5851440"/>
            <a:ext cx="2295360" cy="754200"/>
          </a:xfrm>
          <a:custGeom>
            <a:avLst/>
            <a:gdLst/>
            <a:ahLst/>
            <a:rect l="l" t="t" r="r" b="b"/>
            <a:pathLst>
              <a:path w="1446" h="475">
                <a:moveTo>
                  <a:pt x="0" y="466"/>
                </a:moveTo>
                <a:cubicBezTo>
                  <a:pt x="85" y="461"/>
                  <a:pt x="344" y="475"/>
                  <a:pt x="512" y="438"/>
                </a:cubicBezTo>
                <a:cubicBezTo>
                  <a:pt x="680" y="401"/>
                  <a:pt x="852" y="315"/>
                  <a:pt x="1008" y="242"/>
                </a:cubicBezTo>
                <a:cubicBezTo>
                  <a:pt x="1164" y="169"/>
                  <a:pt x="1355" y="50"/>
                  <a:pt x="1446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44360" y="1979640"/>
            <a:ext cx="3888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xperimental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9290160" y="7020000"/>
            <a:ext cx="9349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553080" y="7020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03280" y="3132000"/>
            <a:ext cx="9290160" cy="3456000"/>
          </a:xfrm>
          <a:custGeom>
            <a:avLst/>
            <a:gdLst/>
            <a:ahLst/>
            <a:rect l="l" t="t" r="r" b="b"/>
            <a:pathLst>
              <a:path w="5852" h="2177">
                <a:moveTo>
                  <a:pt x="0" y="2177"/>
                </a:moveTo>
                <a:cubicBezTo>
                  <a:pt x="144" y="2060"/>
                  <a:pt x="288" y="1943"/>
                  <a:pt x="409" y="1905"/>
                </a:cubicBezTo>
                <a:cubicBezTo>
                  <a:pt x="530" y="1867"/>
                  <a:pt x="620" y="1935"/>
                  <a:pt x="726" y="1950"/>
                </a:cubicBezTo>
                <a:cubicBezTo>
                  <a:pt x="832" y="1965"/>
                  <a:pt x="863" y="2041"/>
                  <a:pt x="1044" y="1996"/>
                </a:cubicBezTo>
                <a:cubicBezTo>
                  <a:pt x="1225" y="1951"/>
                  <a:pt x="1558" y="1724"/>
                  <a:pt x="1815" y="1678"/>
                </a:cubicBezTo>
                <a:cubicBezTo>
                  <a:pt x="2072" y="1632"/>
                  <a:pt x="2291" y="1851"/>
                  <a:pt x="2586" y="1723"/>
                </a:cubicBezTo>
                <a:cubicBezTo>
                  <a:pt x="2881" y="1595"/>
                  <a:pt x="3313" y="1083"/>
                  <a:pt x="3584" y="907"/>
                </a:cubicBezTo>
                <a:cubicBezTo>
                  <a:pt x="3855" y="731"/>
                  <a:pt x="4014" y="771"/>
                  <a:pt x="4210" y="665"/>
                </a:cubicBezTo>
                <a:cubicBezTo>
                  <a:pt x="4406" y="559"/>
                  <a:pt x="4527" y="353"/>
                  <a:pt x="4763" y="272"/>
                </a:cubicBezTo>
                <a:cubicBezTo>
                  <a:pt x="4999" y="191"/>
                  <a:pt x="5444" y="226"/>
                  <a:pt x="5625" y="181"/>
                </a:cubicBezTo>
                <a:cubicBezTo>
                  <a:pt x="5806" y="136"/>
                  <a:pt x="5814" y="30"/>
                  <a:pt x="5852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03280" y="5705640"/>
            <a:ext cx="2313000" cy="882360"/>
          </a:xfrm>
          <a:custGeom>
            <a:avLst/>
            <a:gdLst/>
            <a:ahLst/>
            <a:rect l="l" t="t" r="r" b="b"/>
            <a:pathLst>
              <a:path w="1457" h="556">
                <a:moveTo>
                  <a:pt x="0" y="556"/>
                </a:moveTo>
                <a:cubicBezTo>
                  <a:pt x="75" y="435"/>
                  <a:pt x="151" y="315"/>
                  <a:pt x="227" y="239"/>
                </a:cubicBezTo>
                <a:cubicBezTo>
                  <a:pt x="303" y="163"/>
                  <a:pt x="315" y="126"/>
                  <a:pt x="454" y="102"/>
                </a:cubicBezTo>
                <a:cubicBezTo>
                  <a:pt x="593" y="78"/>
                  <a:pt x="898" y="109"/>
                  <a:pt x="1065" y="92"/>
                </a:cubicBezTo>
                <a:cubicBezTo>
                  <a:pt x="1232" y="75"/>
                  <a:pt x="1375" y="19"/>
                  <a:pt x="1457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03280" y="6308640"/>
            <a:ext cx="2313000" cy="279360"/>
          </a:xfrm>
          <a:custGeom>
            <a:avLst/>
            <a:gdLst/>
            <a:ahLst/>
            <a:rect l="l" t="t" r="r" b="b"/>
            <a:pathLst>
              <a:path w="1457" h="176">
                <a:moveTo>
                  <a:pt x="0" y="176"/>
                </a:moveTo>
                <a:cubicBezTo>
                  <a:pt x="45" y="157"/>
                  <a:pt x="91" y="138"/>
                  <a:pt x="182" y="131"/>
                </a:cubicBezTo>
                <a:cubicBezTo>
                  <a:pt x="273" y="124"/>
                  <a:pt x="386" y="147"/>
                  <a:pt x="545" y="131"/>
                </a:cubicBezTo>
                <a:cubicBezTo>
                  <a:pt x="704" y="115"/>
                  <a:pt x="983" y="57"/>
                  <a:pt x="1135" y="35"/>
                </a:cubicBezTo>
                <a:cubicBezTo>
                  <a:pt x="1287" y="13"/>
                  <a:pt x="1390" y="7"/>
                  <a:pt x="1457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03280" y="5467320"/>
            <a:ext cx="2295360" cy="1120680"/>
          </a:xfrm>
          <a:custGeom>
            <a:avLst/>
            <a:gdLst/>
            <a:ahLst/>
            <a:rect l="l" t="t" r="r" b="b"/>
            <a:pathLst>
              <a:path w="1446" h="706">
                <a:moveTo>
                  <a:pt x="0" y="706"/>
                </a:moveTo>
                <a:cubicBezTo>
                  <a:pt x="128" y="664"/>
                  <a:pt x="250" y="622"/>
                  <a:pt x="408" y="570"/>
                </a:cubicBezTo>
                <a:cubicBezTo>
                  <a:pt x="566" y="518"/>
                  <a:pt x="777" y="487"/>
                  <a:pt x="950" y="392"/>
                </a:cubicBezTo>
                <a:cubicBezTo>
                  <a:pt x="1123" y="297"/>
                  <a:pt x="1343" y="82"/>
                  <a:pt x="1446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16360" y="6948360"/>
            <a:ext cx="1944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 flipV="1">
            <a:off x="4392360" y="608436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-71280" y="4340160"/>
            <a:ext cx="187164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5-member prediction started 1 Nov 1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44360" y="7074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63640" y="5003640"/>
            <a:ext cx="2305080" cy="1297080"/>
          </a:xfrm>
          <a:custGeom>
            <a:avLst/>
            <a:gdLst/>
            <a:ahLst/>
            <a:rect l="l" t="t" r="r" b="b"/>
            <a:pathLst>
              <a:path w="1452" h="817">
                <a:moveTo>
                  <a:pt x="0" y="817"/>
                </a:moveTo>
                <a:cubicBezTo>
                  <a:pt x="60" y="669"/>
                  <a:pt x="121" y="521"/>
                  <a:pt x="272" y="408"/>
                </a:cubicBezTo>
                <a:cubicBezTo>
                  <a:pt x="423" y="295"/>
                  <a:pt x="710" y="204"/>
                  <a:pt x="907" y="136"/>
                </a:cubicBezTo>
                <a:cubicBezTo>
                  <a:pt x="1104" y="68"/>
                  <a:pt x="1354" y="23"/>
                  <a:pt x="1452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63640" y="5280120"/>
            <a:ext cx="2305080" cy="1020600"/>
          </a:xfrm>
          <a:custGeom>
            <a:avLst/>
            <a:gdLst/>
            <a:ahLst/>
            <a:rect l="l" t="t" r="r" b="b"/>
            <a:pathLst>
              <a:path w="1452" h="643">
                <a:moveTo>
                  <a:pt x="0" y="643"/>
                </a:moveTo>
                <a:cubicBezTo>
                  <a:pt x="378" y="419"/>
                  <a:pt x="756" y="196"/>
                  <a:pt x="998" y="98"/>
                </a:cubicBezTo>
                <a:cubicBezTo>
                  <a:pt x="1240" y="0"/>
                  <a:pt x="1377" y="68"/>
                  <a:pt x="1452" y="53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63640" y="5940360"/>
            <a:ext cx="2305080" cy="574920"/>
          </a:xfrm>
          <a:custGeom>
            <a:avLst/>
            <a:gdLst/>
            <a:ahLst/>
            <a:rect l="l" t="t" r="r" b="b"/>
            <a:pathLst>
              <a:path w="1452" h="362">
                <a:moveTo>
                  <a:pt x="0" y="227"/>
                </a:moveTo>
                <a:cubicBezTo>
                  <a:pt x="242" y="242"/>
                  <a:pt x="484" y="257"/>
                  <a:pt x="681" y="272"/>
                </a:cubicBezTo>
                <a:cubicBezTo>
                  <a:pt x="878" y="287"/>
                  <a:pt x="1052" y="362"/>
                  <a:pt x="1180" y="317"/>
                </a:cubicBezTo>
                <a:cubicBezTo>
                  <a:pt x="1308" y="272"/>
                  <a:pt x="1407" y="53"/>
                  <a:pt x="1452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31640" y="6804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03280" y="3059280"/>
            <a:ext cx="187164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5-member prediction started 1 Nov 19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03280" y="5578560"/>
            <a:ext cx="2295360" cy="1009440"/>
          </a:xfrm>
          <a:custGeom>
            <a:avLst/>
            <a:gdLst/>
            <a:ahLst/>
            <a:rect l="l" t="t" r="r" b="b"/>
            <a:pathLst>
              <a:path w="1446" h="636">
                <a:moveTo>
                  <a:pt x="0" y="636"/>
                </a:moveTo>
                <a:cubicBezTo>
                  <a:pt x="72" y="601"/>
                  <a:pt x="316" y="520"/>
                  <a:pt x="432" y="426"/>
                </a:cubicBezTo>
                <a:cubicBezTo>
                  <a:pt x="548" y="332"/>
                  <a:pt x="584" y="123"/>
                  <a:pt x="697" y="69"/>
                </a:cubicBezTo>
                <a:cubicBezTo>
                  <a:pt x="810" y="15"/>
                  <a:pt x="986" y="114"/>
                  <a:pt x="1111" y="103"/>
                </a:cubicBezTo>
                <a:cubicBezTo>
                  <a:pt x="1236" y="92"/>
                  <a:pt x="1376" y="21"/>
                  <a:pt x="1446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03280" y="5851440"/>
            <a:ext cx="2295360" cy="754200"/>
          </a:xfrm>
          <a:custGeom>
            <a:avLst/>
            <a:gdLst/>
            <a:ahLst/>
            <a:rect l="l" t="t" r="r" b="b"/>
            <a:pathLst>
              <a:path w="1446" h="475">
                <a:moveTo>
                  <a:pt x="0" y="466"/>
                </a:moveTo>
                <a:cubicBezTo>
                  <a:pt x="85" y="461"/>
                  <a:pt x="344" y="475"/>
                  <a:pt x="512" y="438"/>
                </a:cubicBezTo>
                <a:cubicBezTo>
                  <a:pt x="680" y="401"/>
                  <a:pt x="852" y="315"/>
                  <a:pt x="1008" y="242"/>
                </a:cubicBezTo>
                <a:cubicBezTo>
                  <a:pt x="1164" y="169"/>
                  <a:pt x="1355" y="50"/>
                  <a:pt x="1446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63640" y="5157720"/>
            <a:ext cx="2263680" cy="1143000"/>
          </a:xfrm>
          <a:custGeom>
            <a:avLst/>
            <a:gdLst/>
            <a:ahLst/>
            <a:rect l="l" t="t" r="r" b="b"/>
            <a:pathLst>
              <a:path w="1426" h="720">
                <a:moveTo>
                  <a:pt x="0" y="720"/>
                </a:moveTo>
                <a:cubicBezTo>
                  <a:pt x="99" y="684"/>
                  <a:pt x="432" y="590"/>
                  <a:pt x="596" y="507"/>
                </a:cubicBezTo>
                <a:cubicBezTo>
                  <a:pt x="760" y="424"/>
                  <a:pt x="850" y="303"/>
                  <a:pt x="988" y="219"/>
                </a:cubicBezTo>
                <a:cubicBezTo>
                  <a:pt x="1126" y="135"/>
                  <a:pt x="1335" y="46"/>
                  <a:pt x="1426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44360" y="1979640"/>
            <a:ext cx="3888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xperimental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9290160" y="7020000"/>
            <a:ext cx="9349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553080" y="7020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63640" y="5580000"/>
            <a:ext cx="2305080" cy="720720"/>
          </a:xfrm>
          <a:custGeom>
            <a:avLst/>
            <a:gdLst/>
            <a:ahLst/>
            <a:rect l="l" t="t" r="r" b="b"/>
            <a:pathLst>
              <a:path w="1452" h="454">
                <a:moveTo>
                  <a:pt x="0" y="454"/>
                </a:moveTo>
                <a:cubicBezTo>
                  <a:pt x="151" y="416"/>
                  <a:pt x="303" y="378"/>
                  <a:pt x="454" y="363"/>
                </a:cubicBezTo>
                <a:cubicBezTo>
                  <a:pt x="605" y="348"/>
                  <a:pt x="779" y="378"/>
                  <a:pt x="907" y="363"/>
                </a:cubicBezTo>
                <a:cubicBezTo>
                  <a:pt x="1035" y="348"/>
                  <a:pt x="1134" y="332"/>
                  <a:pt x="1225" y="272"/>
                </a:cubicBezTo>
                <a:cubicBezTo>
                  <a:pt x="1316" y="212"/>
                  <a:pt x="1414" y="45"/>
                  <a:pt x="1452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1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03280" y="3132000"/>
            <a:ext cx="9290160" cy="3456000"/>
          </a:xfrm>
          <a:custGeom>
            <a:avLst/>
            <a:gdLst/>
            <a:ahLst/>
            <a:rect l="l" t="t" r="r" b="b"/>
            <a:pathLst>
              <a:path w="5852" h="2177">
                <a:moveTo>
                  <a:pt x="0" y="2177"/>
                </a:moveTo>
                <a:cubicBezTo>
                  <a:pt x="144" y="2060"/>
                  <a:pt x="288" y="1943"/>
                  <a:pt x="409" y="1905"/>
                </a:cubicBezTo>
                <a:cubicBezTo>
                  <a:pt x="530" y="1867"/>
                  <a:pt x="620" y="1935"/>
                  <a:pt x="726" y="1950"/>
                </a:cubicBezTo>
                <a:cubicBezTo>
                  <a:pt x="832" y="1965"/>
                  <a:pt x="863" y="2041"/>
                  <a:pt x="1044" y="1996"/>
                </a:cubicBezTo>
                <a:cubicBezTo>
                  <a:pt x="1225" y="1951"/>
                  <a:pt x="1558" y="1724"/>
                  <a:pt x="1815" y="1678"/>
                </a:cubicBezTo>
                <a:cubicBezTo>
                  <a:pt x="2072" y="1632"/>
                  <a:pt x="2291" y="1851"/>
                  <a:pt x="2586" y="1723"/>
                </a:cubicBezTo>
                <a:cubicBezTo>
                  <a:pt x="2881" y="1595"/>
                  <a:pt x="3313" y="1083"/>
                  <a:pt x="3584" y="907"/>
                </a:cubicBezTo>
                <a:cubicBezTo>
                  <a:pt x="3855" y="731"/>
                  <a:pt x="4014" y="771"/>
                  <a:pt x="4210" y="665"/>
                </a:cubicBezTo>
                <a:cubicBezTo>
                  <a:pt x="4406" y="559"/>
                  <a:pt x="4527" y="353"/>
                  <a:pt x="4763" y="272"/>
                </a:cubicBezTo>
                <a:cubicBezTo>
                  <a:pt x="4999" y="191"/>
                  <a:pt x="5444" y="226"/>
                  <a:pt x="5625" y="181"/>
                </a:cubicBezTo>
                <a:cubicBezTo>
                  <a:pt x="5806" y="136"/>
                  <a:pt x="5814" y="30"/>
                  <a:pt x="5852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03280" y="5705640"/>
            <a:ext cx="2313000" cy="882360"/>
          </a:xfrm>
          <a:custGeom>
            <a:avLst/>
            <a:gdLst/>
            <a:ahLst/>
            <a:rect l="l" t="t" r="r" b="b"/>
            <a:pathLst>
              <a:path w="1457" h="556">
                <a:moveTo>
                  <a:pt x="0" y="556"/>
                </a:moveTo>
                <a:cubicBezTo>
                  <a:pt x="75" y="435"/>
                  <a:pt x="151" y="315"/>
                  <a:pt x="227" y="239"/>
                </a:cubicBezTo>
                <a:cubicBezTo>
                  <a:pt x="303" y="163"/>
                  <a:pt x="315" y="126"/>
                  <a:pt x="454" y="102"/>
                </a:cubicBezTo>
                <a:cubicBezTo>
                  <a:pt x="593" y="78"/>
                  <a:pt x="898" y="109"/>
                  <a:pt x="1065" y="92"/>
                </a:cubicBezTo>
                <a:cubicBezTo>
                  <a:pt x="1232" y="75"/>
                  <a:pt x="1375" y="19"/>
                  <a:pt x="1457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03280" y="6308640"/>
            <a:ext cx="2313000" cy="279360"/>
          </a:xfrm>
          <a:custGeom>
            <a:avLst/>
            <a:gdLst/>
            <a:ahLst/>
            <a:rect l="l" t="t" r="r" b="b"/>
            <a:pathLst>
              <a:path w="1457" h="176">
                <a:moveTo>
                  <a:pt x="0" y="176"/>
                </a:moveTo>
                <a:cubicBezTo>
                  <a:pt x="45" y="157"/>
                  <a:pt x="91" y="138"/>
                  <a:pt x="182" y="131"/>
                </a:cubicBezTo>
                <a:cubicBezTo>
                  <a:pt x="273" y="124"/>
                  <a:pt x="386" y="147"/>
                  <a:pt x="545" y="131"/>
                </a:cubicBezTo>
                <a:cubicBezTo>
                  <a:pt x="704" y="115"/>
                  <a:pt x="983" y="57"/>
                  <a:pt x="1135" y="35"/>
                </a:cubicBezTo>
                <a:cubicBezTo>
                  <a:pt x="1287" y="13"/>
                  <a:pt x="1390" y="7"/>
                  <a:pt x="1457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03280" y="5467320"/>
            <a:ext cx="2295360" cy="1120680"/>
          </a:xfrm>
          <a:custGeom>
            <a:avLst/>
            <a:gdLst/>
            <a:ahLst/>
            <a:rect l="l" t="t" r="r" b="b"/>
            <a:pathLst>
              <a:path w="1446" h="706">
                <a:moveTo>
                  <a:pt x="0" y="706"/>
                </a:moveTo>
                <a:cubicBezTo>
                  <a:pt x="128" y="664"/>
                  <a:pt x="250" y="622"/>
                  <a:pt x="408" y="570"/>
                </a:cubicBezTo>
                <a:cubicBezTo>
                  <a:pt x="566" y="518"/>
                  <a:pt x="777" y="487"/>
                  <a:pt x="950" y="392"/>
                </a:cubicBezTo>
                <a:cubicBezTo>
                  <a:pt x="1123" y="297"/>
                  <a:pt x="1343" y="82"/>
                  <a:pt x="1446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816360" y="6948360"/>
            <a:ext cx="1944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4392360" y="608436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-71280" y="4340160"/>
            <a:ext cx="187164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5-member prediction started 1 Nov 1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4360" y="7074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63640" y="5003640"/>
            <a:ext cx="2305080" cy="1297080"/>
          </a:xfrm>
          <a:custGeom>
            <a:avLst/>
            <a:gdLst/>
            <a:ahLst/>
            <a:rect l="l" t="t" r="r" b="b"/>
            <a:pathLst>
              <a:path w="1452" h="817">
                <a:moveTo>
                  <a:pt x="0" y="817"/>
                </a:moveTo>
                <a:cubicBezTo>
                  <a:pt x="60" y="669"/>
                  <a:pt x="121" y="521"/>
                  <a:pt x="272" y="408"/>
                </a:cubicBezTo>
                <a:cubicBezTo>
                  <a:pt x="423" y="295"/>
                  <a:pt x="710" y="204"/>
                  <a:pt x="907" y="136"/>
                </a:cubicBezTo>
                <a:cubicBezTo>
                  <a:pt x="1104" y="68"/>
                  <a:pt x="1354" y="23"/>
                  <a:pt x="1452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63640" y="5280120"/>
            <a:ext cx="2305080" cy="1020600"/>
          </a:xfrm>
          <a:custGeom>
            <a:avLst/>
            <a:gdLst/>
            <a:ahLst/>
            <a:rect l="l" t="t" r="r" b="b"/>
            <a:pathLst>
              <a:path w="1452" h="643">
                <a:moveTo>
                  <a:pt x="0" y="643"/>
                </a:moveTo>
                <a:cubicBezTo>
                  <a:pt x="378" y="419"/>
                  <a:pt x="756" y="196"/>
                  <a:pt x="998" y="98"/>
                </a:cubicBezTo>
                <a:cubicBezTo>
                  <a:pt x="1240" y="0"/>
                  <a:pt x="1377" y="68"/>
                  <a:pt x="1452" y="53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63640" y="5940360"/>
            <a:ext cx="2305080" cy="574920"/>
          </a:xfrm>
          <a:custGeom>
            <a:avLst/>
            <a:gdLst/>
            <a:ahLst/>
            <a:rect l="l" t="t" r="r" b="b"/>
            <a:pathLst>
              <a:path w="1452" h="362">
                <a:moveTo>
                  <a:pt x="0" y="227"/>
                </a:moveTo>
                <a:cubicBezTo>
                  <a:pt x="242" y="242"/>
                  <a:pt x="484" y="257"/>
                  <a:pt x="681" y="272"/>
                </a:cubicBezTo>
                <a:cubicBezTo>
                  <a:pt x="878" y="287"/>
                  <a:pt x="1052" y="362"/>
                  <a:pt x="1180" y="317"/>
                </a:cubicBezTo>
                <a:cubicBezTo>
                  <a:pt x="1308" y="272"/>
                  <a:pt x="1407" y="53"/>
                  <a:pt x="1452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31640" y="6804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03280" y="3059280"/>
            <a:ext cx="187164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5-member prediction started 1 Nov 19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03280" y="5578560"/>
            <a:ext cx="2295360" cy="1009440"/>
          </a:xfrm>
          <a:custGeom>
            <a:avLst/>
            <a:gdLst/>
            <a:ahLst/>
            <a:rect l="l" t="t" r="r" b="b"/>
            <a:pathLst>
              <a:path w="1446" h="636">
                <a:moveTo>
                  <a:pt x="0" y="636"/>
                </a:moveTo>
                <a:cubicBezTo>
                  <a:pt x="72" y="601"/>
                  <a:pt x="316" y="520"/>
                  <a:pt x="432" y="426"/>
                </a:cubicBezTo>
                <a:cubicBezTo>
                  <a:pt x="548" y="332"/>
                  <a:pt x="584" y="123"/>
                  <a:pt x="697" y="69"/>
                </a:cubicBezTo>
                <a:cubicBezTo>
                  <a:pt x="810" y="15"/>
                  <a:pt x="986" y="114"/>
                  <a:pt x="1111" y="103"/>
                </a:cubicBezTo>
                <a:cubicBezTo>
                  <a:pt x="1236" y="92"/>
                  <a:pt x="1376" y="21"/>
                  <a:pt x="1446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03280" y="5851440"/>
            <a:ext cx="2295360" cy="754200"/>
          </a:xfrm>
          <a:custGeom>
            <a:avLst/>
            <a:gdLst/>
            <a:ahLst/>
            <a:rect l="l" t="t" r="r" b="b"/>
            <a:pathLst>
              <a:path w="1446" h="475">
                <a:moveTo>
                  <a:pt x="0" y="466"/>
                </a:moveTo>
                <a:cubicBezTo>
                  <a:pt x="85" y="461"/>
                  <a:pt x="344" y="475"/>
                  <a:pt x="512" y="438"/>
                </a:cubicBezTo>
                <a:cubicBezTo>
                  <a:pt x="680" y="401"/>
                  <a:pt x="852" y="315"/>
                  <a:pt x="1008" y="242"/>
                </a:cubicBezTo>
                <a:cubicBezTo>
                  <a:pt x="1164" y="169"/>
                  <a:pt x="1355" y="50"/>
                  <a:pt x="1446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63640" y="5157720"/>
            <a:ext cx="2263680" cy="1143000"/>
          </a:xfrm>
          <a:custGeom>
            <a:avLst/>
            <a:gdLst/>
            <a:ahLst/>
            <a:rect l="l" t="t" r="r" b="b"/>
            <a:pathLst>
              <a:path w="1426" h="720">
                <a:moveTo>
                  <a:pt x="0" y="720"/>
                </a:moveTo>
                <a:cubicBezTo>
                  <a:pt x="99" y="684"/>
                  <a:pt x="432" y="590"/>
                  <a:pt x="596" y="507"/>
                </a:cubicBezTo>
                <a:cubicBezTo>
                  <a:pt x="760" y="424"/>
                  <a:pt x="850" y="303"/>
                  <a:pt x="988" y="219"/>
                </a:cubicBezTo>
                <a:cubicBezTo>
                  <a:pt x="1126" y="135"/>
                  <a:pt x="1335" y="46"/>
                  <a:pt x="1426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44360" y="1979640"/>
            <a:ext cx="3888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xperimental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40000" y="5075280"/>
            <a:ext cx="2087280" cy="1081080"/>
          </a:xfrm>
          <a:custGeom>
            <a:avLst/>
            <a:gdLst/>
            <a:ahLst/>
            <a:rect l="l" t="t" r="r" b="b"/>
            <a:pathLst>
              <a:path w="1315" h="681">
                <a:moveTo>
                  <a:pt x="0" y="681"/>
                </a:moveTo>
                <a:cubicBezTo>
                  <a:pt x="230" y="669"/>
                  <a:pt x="461" y="658"/>
                  <a:pt x="680" y="545"/>
                </a:cubicBezTo>
                <a:cubicBezTo>
                  <a:pt x="899" y="432"/>
                  <a:pt x="1209" y="91"/>
                  <a:pt x="1315" y="0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440000" y="6156360"/>
            <a:ext cx="2016000" cy="514440"/>
          </a:xfrm>
          <a:custGeom>
            <a:avLst/>
            <a:gdLst/>
            <a:ahLst/>
            <a:rect l="l" t="t" r="r" b="b"/>
            <a:pathLst>
              <a:path w="1270" h="324">
                <a:moveTo>
                  <a:pt x="0" y="0"/>
                </a:moveTo>
                <a:cubicBezTo>
                  <a:pt x="347" y="155"/>
                  <a:pt x="695" y="310"/>
                  <a:pt x="907" y="317"/>
                </a:cubicBezTo>
                <a:cubicBezTo>
                  <a:pt x="1119" y="324"/>
                  <a:pt x="1210" y="90"/>
                  <a:pt x="1270" y="45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295280" y="5940360"/>
            <a:ext cx="2160720" cy="468360"/>
          </a:xfrm>
          <a:custGeom>
            <a:avLst/>
            <a:gdLst/>
            <a:ahLst/>
            <a:rect l="l" t="t" r="r" b="b"/>
            <a:pathLst>
              <a:path w="1361" h="295">
                <a:moveTo>
                  <a:pt x="0" y="136"/>
                </a:moveTo>
                <a:cubicBezTo>
                  <a:pt x="340" y="215"/>
                  <a:pt x="681" y="295"/>
                  <a:pt x="908" y="272"/>
                </a:cubicBezTo>
                <a:cubicBezTo>
                  <a:pt x="1135" y="249"/>
                  <a:pt x="1293" y="38"/>
                  <a:pt x="1361" y="0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295280" y="5508720"/>
            <a:ext cx="2159280" cy="647640"/>
          </a:xfrm>
          <a:custGeom>
            <a:avLst/>
            <a:gdLst/>
            <a:ahLst/>
            <a:rect l="l" t="t" r="r" b="b"/>
            <a:pathLst>
              <a:path w="1360" h="408">
                <a:moveTo>
                  <a:pt x="0" y="408"/>
                </a:moveTo>
                <a:cubicBezTo>
                  <a:pt x="187" y="368"/>
                  <a:pt x="892" y="238"/>
                  <a:pt x="1119" y="170"/>
                </a:cubicBezTo>
                <a:cubicBezTo>
                  <a:pt x="1346" y="102"/>
                  <a:pt x="1310" y="35"/>
                  <a:pt x="1360" y="0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6156360"/>
            <a:ext cx="2089440" cy="144360"/>
          </a:xfrm>
          <a:custGeom>
            <a:avLst/>
            <a:gdLst/>
            <a:ahLst/>
            <a:rect l="l" t="t" r="r" b="b"/>
            <a:pathLst>
              <a:path w="1316" h="91">
                <a:moveTo>
                  <a:pt x="0" y="0"/>
                </a:moveTo>
                <a:cubicBezTo>
                  <a:pt x="253" y="15"/>
                  <a:pt x="507" y="30"/>
                  <a:pt x="726" y="45"/>
                </a:cubicBezTo>
                <a:cubicBezTo>
                  <a:pt x="945" y="60"/>
                  <a:pt x="1210" y="83"/>
                  <a:pt x="1316" y="91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92000" y="7074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016000" y="3481560"/>
            <a:ext cx="187164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Arial"/>
              </a:rPr>
              <a:t>5-member prediction started 1 Nov 19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9290160" y="7020000"/>
            <a:ext cx="9349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553080" y="7020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863640" y="5580000"/>
            <a:ext cx="2305080" cy="720720"/>
          </a:xfrm>
          <a:custGeom>
            <a:avLst/>
            <a:gdLst/>
            <a:ahLst/>
            <a:rect l="l" t="t" r="r" b="b"/>
            <a:pathLst>
              <a:path w="1452" h="454">
                <a:moveTo>
                  <a:pt x="0" y="454"/>
                </a:moveTo>
                <a:cubicBezTo>
                  <a:pt x="151" y="416"/>
                  <a:pt x="303" y="378"/>
                  <a:pt x="454" y="363"/>
                </a:cubicBezTo>
                <a:cubicBezTo>
                  <a:pt x="605" y="348"/>
                  <a:pt x="779" y="378"/>
                  <a:pt x="907" y="363"/>
                </a:cubicBezTo>
                <a:cubicBezTo>
                  <a:pt x="1035" y="348"/>
                  <a:pt x="1134" y="332"/>
                  <a:pt x="1225" y="272"/>
                </a:cubicBezTo>
                <a:cubicBezTo>
                  <a:pt x="1316" y="212"/>
                  <a:pt x="1414" y="45"/>
                  <a:pt x="1452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" descr=""/>
          <p:cNvPicPr/>
          <p:nvPr/>
        </p:nvPicPr>
        <p:blipFill>
          <a:blip r:embed="rId1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03280" y="3132000"/>
            <a:ext cx="9290160" cy="3456000"/>
          </a:xfrm>
          <a:custGeom>
            <a:avLst/>
            <a:gdLst/>
            <a:ahLst/>
            <a:rect l="l" t="t" r="r" b="b"/>
            <a:pathLst>
              <a:path w="5852" h="2177">
                <a:moveTo>
                  <a:pt x="0" y="2177"/>
                </a:moveTo>
                <a:cubicBezTo>
                  <a:pt x="144" y="2060"/>
                  <a:pt x="288" y="1943"/>
                  <a:pt x="409" y="1905"/>
                </a:cubicBezTo>
                <a:cubicBezTo>
                  <a:pt x="530" y="1867"/>
                  <a:pt x="620" y="1935"/>
                  <a:pt x="726" y="1950"/>
                </a:cubicBezTo>
                <a:cubicBezTo>
                  <a:pt x="832" y="1965"/>
                  <a:pt x="863" y="2041"/>
                  <a:pt x="1044" y="1996"/>
                </a:cubicBezTo>
                <a:cubicBezTo>
                  <a:pt x="1225" y="1951"/>
                  <a:pt x="1558" y="1724"/>
                  <a:pt x="1815" y="1678"/>
                </a:cubicBezTo>
                <a:cubicBezTo>
                  <a:pt x="2072" y="1632"/>
                  <a:pt x="2291" y="1851"/>
                  <a:pt x="2586" y="1723"/>
                </a:cubicBezTo>
                <a:cubicBezTo>
                  <a:pt x="2881" y="1595"/>
                  <a:pt x="3313" y="1083"/>
                  <a:pt x="3584" y="907"/>
                </a:cubicBezTo>
                <a:cubicBezTo>
                  <a:pt x="3855" y="731"/>
                  <a:pt x="4014" y="771"/>
                  <a:pt x="4210" y="665"/>
                </a:cubicBezTo>
                <a:cubicBezTo>
                  <a:pt x="4406" y="559"/>
                  <a:pt x="4527" y="353"/>
                  <a:pt x="4763" y="272"/>
                </a:cubicBezTo>
                <a:cubicBezTo>
                  <a:pt x="4999" y="191"/>
                  <a:pt x="5444" y="226"/>
                  <a:pt x="5625" y="181"/>
                </a:cubicBezTo>
                <a:cubicBezTo>
                  <a:pt x="5806" y="136"/>
                  <a:pt x="5814" y="30"/>
                  <a:pt x="5852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03280" y="5705640"/>
            <a:ext cx="2313000" cy="882360"/>
          </a:xfrm>
          <a:custGeom>
            <a:avLst/>
            <a:gdLst/>
            <a:ahLst/>
            <a:rect l="l" t="t" r="r" b="b"/>
            <a:pathLst>
              <a:path w="1457" h="556">
                <a:moveTo>
                  <a:pt x="0" y="556"/>
                </a:moveTo>
                <a:cubicBezTo>
                  <a:pt x="75" y="435"/>
                  <a:pt x="151" y="315"/>
                  <a:pt x="227" y="239"/>
                </a:cubicBezTo>
                <a:cubicBezTo>
                  <a:pt x="303" y="163"/>
                  <a:pt x="315" y="126"/>
                  <a:pt x="454" y="102"/>
                </a:cubicBezTo>
                <a:cubicBezTo>
                  <a:pt x="593" y="78"/>
                  <a:pt x="898" y="109"/>
                  <a:pt x="1065" y="92"/>
                </a:cubicBezTo>
                <a:cubicBezTo>
                  <a:pt x="1232" y="75"/>
                  <a:pt x="1375" y="19"/>
                  <a:pt x="1457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03280" y="6308640"/>
            <a:ext cx="2313000" cy="279360"/>
          </a:xfrm>
          <a:custGeom>
            <a:avLst/>
            <a:gdLst/>
            <a:ahLst/>
            <a:rect l="l" t="t" r="r" b="b"/>
            <a:pathLst>
              <a:path w="1457" h="176">
                <a:moveTo>
                  <a:pt x="0" y="176"/>
                </a:moveTo>
                <a:cubicBezTo>
                  <a:pt x="45" y="157"/>
                  <a:pt x="91" y="138"/>
                  <a:pt x="182" y="131"/>
                </a:cubicBezTo>
                <a:cubicBezTo>
                  <a:pt x="273" y="124"/>
                  <a:pt x="386" y="147"/>
                  <a:pt x="545" y="131"/>
                </a:cubicBezTo>
                <a:cubicBezTo>
                  <a:pt x="704" y="115"/>
                  <a:pt x="983" y="57"/>
                  <a:pt x="1135" y="35"/>
                </a:cubicBezTo>
                <a:cubicBezTo>
                  <a:pt x="1287" y="13"/>
                  <a:pt x="1390" y="7"/>
                  <a:pt x="1457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03280" y="5467320"/>
            <a:ext cx="2295360" cy="1120680"/>
          </a:xfrm>
          <a:custGeom>
            <a:avLst/>
            <a:gdLst/>
            <a:ahLst/>
            <a:rect l="l" t="t" r="r" b="b"/>
            <a:pathLst>
              <a:path w="1446" h="706">
                <a:moveTo>
                  <a:pt x="0" y="706"/>
                </a:moveTo>
                <a:cubicBezTo>
                  <a:pt x="128" y="664"/>
                  <a:pt x="250" y="622"/>
                  <a:pt x="408" y="570"/>
                </a:cubicBezTo>
                <a:cubicBezTo>
                  <a:pt x="566" y="518"/>
                  <a:pt x="777" y="487"/>
                  <a:pt x="950" y="392"/>
                </a:cubicBezTo>
                <a:cubicBezTo>
                  <a:pt x="1123" y="297"/>
                  <a:pt x="1343" y="82"/>
                  <a:pt x="1446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816360" y="6948360"/>
            <a:ext cx="1944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 flipV="1">
            <a:off x="4392360" y="608436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-71280" y="4340160"/>
            <a:ext cx="187164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5-member prediction started 1 Nov 1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44360" y="7074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63640" y="5003640"/>
            <a:ext cx="2305080" cy="1297080"/>
          </a:xfrm>
          <a:custGeom>
            <a:avLst/>
            <a:gdLst/>
            <a:ahLst/>
            <a:rect l="l" t="t" r="r" b="b"/>
            <a:pathLst>
              <a:path w="1452" h="817">
                <a:moveTo>
                  <a:pt x="0" y="817"/>
                </a:moveTo>
                <a:cubicBezTo>
                  <a:pt x="60" y="669"/>
                  <a:pt x="121" y="521"/>
                  <a:pt x="272" y="408"/>
                </a:cubicBezTo>
                <a:cubicBezTo>
                  <a:pt x="423" y="295"/>
                  <a:pt x="710" y="204"/>
                  <a:pt x="907" y="136"/>
                </a:cubicBezTo>
                <a:cubicBezTo>
                  <a:pt x="1104" y="68"/>
                  <a:pt x="1354" y="23"/>
                  <a:pt x="1452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63640" y="5280120"/>
            <a:ext cx="2305080" cy="1020600"/>
          </a:xfrm>
          <a:custGeom>
            <a:avLst/>
            <a:gdLst/>
            <a:ahLst/>
            <a:rect l="l" t="t" r="r" b="b"/>
            <a:pathLst>
              <a:path w="1452" h="643">
                <a:moveTo>
                  <a:pt x="0" y="643"/>
                </a:moveTo>
                <a:cubicBezTo>
                  <a:pt x="378" y="419"/>
                  <a:pt x="756" y="196"/>
                  <a:pt x="998" y="98"/>
                </a:cubicBezTo>
                <a:cubicBezTo>
                  <a:pt x="1240" y="0"/>
                  <a:pt x="1377" y="68"/>
                  <a:pt x="1452" y="53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63640" y="5940360"/>
            <a:ext cx="2305080" cy="574920"/>
          </a:xfrm>
          <a:custGeom>
            <a:avLst/>
            <a:gdLst/>
            <a:ahLst/>
            <a:rect l="l" t="t" r="r" b="b"/>
            <a:pathLst>
              <a:path w="1452" h="362">
                <a:moveTo>
                  <a:pt x="0" y="227"/>
                </a:moveTo>
                <a:cubicBezTo>
                  <a:pt x="242" y="242"/>
                  <a:pt x="484" y="257"/>
                  <a:pt x="681" y="272"/>
                </a:cubicBezTo>
                <a:cubicBezTo>
                  <a:pt x="878" y="287"/>
                  <a:pt x="1052" y="362"/>
                  <a:pt x="1180" y="317"/>
                </a:cubicBezTo>
                <a:cubicBezTo>
                  <a:pt x="1308" y="272"/>
                  <a:pt x="1407" y="53"/>
                  <a:pt x="1452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31640" y="6804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03280" y="3059280"/>
            <a:ext cx="187164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5-member prediction started 1 Nov 19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03280" y="5578560"/>
            <a:ext cx="2295360" cy="1009440"/>
          </a:xfrm>
          <a:custGeom>
            <a:avLst/>
            <a:gdLst/>
            <a:ahLst/>
            <a:rect l="l" t="t" r="r" b="b"/>
            <a:pathLst>
              <a:path w="1446" h="636">
                <a:moveTo>
                  <a:pt x="0" y="636"/>
                </a:moveTo>
                <a:cubicBezTo>
                  <a:pt x="72" y="601"/>
                  <a:pt x="316" y="520"/>
                  <a:pt x="432" y="426"/>
                </a:cubicBezTo>
                <a:cubicBezTo>
                  <a:pt x="548" y="332"/>
                  <a:pt x="584" y="123"/>
                  <a:pt x="697" y="69"/>
                </a:cubicBezTo>
                <a:cubicBezTo>
                  <a:pt x="810" y="15"/>
                  <a:pt x="986" y="114"/>
                  <a:pt x="1111" y="103"/>
                </a:cubicBezTo>
                <a:cubicBezTo>
                  <a:pt x="1236" y="92"/>
                  <a:pt x="1376" y="21"/>
                  <a:pt x="1446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03280" y="5851440"/>
            <a:ext cx="2295360" cy="754200"/>
          </a:xfrm>
          <a:custGeom>
            <a:avLst/>
            <a:gdLst/>
            <a:ahLst/>
            <a:rect l="l" t="t" r="r" b="b"/>
            <a:pathLst>
              <a:path w="1446" h="475">
                <a:moveTo>
                  <a:pt x="0" y="466"/>
                </a:moveTo>
                <a:cubicBezTo>
                  <a:pt x="85" y="461"/>
                  <a:pt x="344" y="475"/>
                  <a:pt x="512" y="438"/>
                </a:cubicBezTo>
                <a:cubicBezTo>
                  <a:pt x="680" y="401"/>
                  <a:pt x="852" y="315"/>
                  <a:pt x="1008" y="242"/>
                </a:cubicBezTo>
                <a:cubicBezTo>
                  <a:pt x="1164" y="169"/>
                  <a:pt x="1355" y="50"/>
                  <a:pt x="1446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63640" y="5157720"/>
            <a:ext cx="2263680" cy="1143000"/>
          </a:xfrm>
          <a:custGeom>
            <a:avLst/>
            <a:gdLst/>
            <a:ahLst/>
            <a:rect l="l" t="t" r="r" b="b"/>
            <a:pathLst>
              <a:path w="1426" h="720">
                <a:moveTo>
                  <a:pt x="0" y="720"/>
                </a:moveTo>
                <a:cubicBezTo>
                  <a:pt x="99" y="684"/>
                  <a:pt x="432" y="590"/>
                  <a:pt x="596" y="507"/>
                </a:cubicBezTo>
                <a:cubicBezTo>
                  <a:pt x="760" y="424"/>
                  <a:pt x="850" y="303"/>
                  <a:pt x="988" y="219"/>
                </a:cubicBezTo>
                <a:cubicBezTo>
                  <a:pt x="1126" y="135"/>
                  <a:pt x="1335" y="46"/>
                  <a:pt x="1426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44360" y="1979640"/>
            <a:ext cx="3888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xperimental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440000" y="5075280"/>
            <a:ext cx="2087280" cy="1081080"/>
          </a:xfrm>
          <a:custGeom>
            <a:avLst/>
            <a:gdLst/>
            <a:ahLst/>
            <a:rect l="l" t="t" r="r" b="b"/>
            <a:pathLst>
              <a:path w="1315" h="681">
                <a:moveTo>
                  <a:pt x="0" y="681"/>
                </a:moveTo>
                <a:cubicBezTo>
                  <a:pt x="230" y="669"/>
                  <a:pt x="461" y="658"/>
                  <a:pt x="680" y="545"/>
                </a:cubicBezTo>
                <a:cubicBezTo>
                  <a:pt x="899" y="432"/>
                  <a:pt x="1209" y="91"/>
                  <a:pt x="1315" y="0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40000" y="6156360"/>
            <a:ext cx="2016000" cy="514440"/>
          </a:xfrm>
          <a:custGeom>
            <a:avLst/>
            <a:gdLst/>
            <a:ahLst/>
            <a:rect l="l" t="t" r="r" b="b"/>
            <a:pathLst>
              <a:path w="1270" h="324">
                <a:moveTo>
                  <a:pt x="0" y="0"/>
                </a:moveTo>
                <a:cubicBezTo>
                  <a:pt x="347" y="155"/>
                  <a:pt x="695" y="310"/>
                  <a:pt x="907" y="317"/>
                </a:cubicBezTo>
                <a:cubicBezTo>
                  <a:pt x="1119" y="324"/>
                  <a:pt x="1210" y="90"/>
                  <a:pt x="1270" y="45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295280" y="5940360"/>
            <a:ext cx="2160720" cy="468360"/>
          </a:xfrm>
          <a:custGeom>
            <a:avLst/>
            <a:gdLst/>
            <a:ahLst/>
            <a:rect l="l" t="t" r="r" b="b"/>
            <a:pathLst>
              <a:path w="1361" h="295">
                <a:moveTo>
                  <a:pt x="0" y="136"/>
                </a:moveTo>
                <a:cubicBezTo>
                  <a:pt x="340" y="215"/>
                  <a:pt x="681" y="295"/>
                  <a:pt x="908" y="272"/>
                </a:cubicBezTo>
                <a:cubicBezTo>
                  <a:pt x="1135" y="249"/>
                  <a:pt x="1293" y="38"/>
                  <a:pt x="1361" y="0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295280" y="5508720"/>
            <a:ext cx="2159280" cy="647640"/>
          </a:xfrm>
          <a:custGeom>
            <a:avLst/>
            <a:gdLst/>
            <a:ahLst/>
            <a:rect l="l" t="t" r="r" b="b"/>
            <a:pathLst>
              <a:path w="1360" h="408">
                <a:moveTo>
                  <a:pt x="0" y="408"/>
                </a:moveTo>
                <a:cubicBezTo>
                  <a:pt x="187" y="368"/>
                  <a:pt x="892" y="238"/>
                  <a:pt x="1119" y="170"/>
                </a:cubicBezTo>
                <a:cubicBezTo>
                  <a:pt x="1346" y="102"/>
                  <a:pt x="1310" y="35"/>
                  <a:pt x="1360" y="0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6156360"/>
            <a:ext cx="2089440" cy="144360"/>
          </a:xfrm>
          <a:custGeom>
            <a:avLst/>
            <a:gdLst/>
            <a:ahLst/>
            <a:rect l="l" t="t" r="r" b="b"/>
            <a:pathLst>
              <a:path w="1316" h="91">
                <a:moveTo>
                  <a:pt x="0" y="0"/>
                </a:moveTo>
                <a:cubicBezTo>
                  <a:pt x="253" y="15"/>
                  <a:pt x="507" y="30"/>
                  <a:pt x="726" y="45"/>
                </a:cubicBezTo>
                <a:cubicBezTo>
                  <a:pt x="945" y="60"/>
                  <a:pt x="1210" y="83"/>
                  <a:pt x="1316" y="91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92000" y="7074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016000" y="3481560"/>
            <a:ext cx="187164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Arial"/>
              </a:rPr>
              <a:t>5-member prediction started 1 Nov 19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9290160" y="7020000"/>
            <a:ext cx="9349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553080" y="7020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863640" y="5580000"/>
            <a:ext cx="2305080" cy="720720"/>
          </a:xfrm>
          <a:custGeom>
            <a:avLst/>
            <a:gdLst/>
            <a:ahLst/>
            <a:rect l="l" t="t" r="r" b="b"/>
            <a:pathLst>
              <a:path w="1452" h="454">
                <a:moveTo>
                  <a:pt x="0" y="454"/>
                </a:moveTo>
                <a:cubicBezTo>
                  <a:pt x="151" y="416"/>
                  <a:pt x="303" y="378"/>
                  <a:pt x="454" y="363"/>
                </a:cubicBezTo>
                <a:cubicBezTo>
                  <a:pt x="605" y="348"/>
                  <a:pt x="779" y="378"/>
                  <a:pt x="907" y="363"/>
                </a:cubicBezTo>
                <a:cubicBezTo>
                  <a:pt x="1035" y="348"/>
                  <a:pt x="1134" y="332"/>
                  <a:pt x="1225" y="272"/>
                </a:cubicBezTo>
                <a:cubicBezTo>
                  <a:pt x="1316" y="212"/>
                  <a:pt x="1414" y="45"/>
                  <a:pt x="1452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840360" y="2989440"/>
            <a:ext cx="1152720" cy="1295280"/>
          </a:xfrm>
          <a:custGeom>
            <a:avLst/>
            <a:gdLst/>
            <a:ahLst/>
            <a:rect l="l" t="t" r="r" b="b"/>
            <a:pathLst>
              <a:path w="726" h="816">
                <a:moveTo>
                  <a:pt x="0" y="816"/>
                </a:moveTo>
                <a:cubicBezTo>
                  <a:pt x="45" y="691"/>
                  <a:pt x="90" y="566"/>
                  <a:pt x="181" y="453"/>
                </a:cubicBezTo>
                <a:cubicBezTo>
                  <a:pt x="272" y="340"/>
                  <a:pt x="453" y="211"/>
                  <a:pt x="544" y="136"/>
                </a:cubicBezTo>
                <a:cubicBezTo>
                  <a:pt x="635" y="61"/>
                  <a:pt x="696" y="15"/>
                  <a:pt x="726" y="0"/>
                </a:cubicBezTo>
              </a:path>
            </a:pathLst>
          </a:custGeom>
          <a:noFill/>
          <a:ln w="2844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912000" y="3905280"/>
            <a:ext cx="1122480" cy="403200"/>
          </a:xfrm>
          <a:custGeom>
            <a:avLst/>
            <a:gdLst/>
            <a:ahLst/>
            <a:rect l="l" t="t" r="r" b="b"/>
            <a:pathLst>
              <a:path w="707" h="254">
                <a:moveTo>
                  <a:pt x="0" y="239"/>
                </a:moveTo>
                <a:cubicBezTo>
                  <a:pt x="91" y="246"/>
                  <a:pt x="182" y="254"/>
                  <a:pt x="273" y="239"/>
                </a:cubicBezTo>
                <a:cubicBezTo>
                  <a:pt x="364" y="224"/>
                  <a:pt x="477" y="186"/>
                  <a:pt x="545" y="148"/>
                </a:cubicBezTo>
                <a:cubicBezTo>
                  <a:pt x="613" y="110"/>
                  <a:pt x="655" y="24"/>
                  <a:pt x="681" y="12"/>
                </a:cubicBezTo>
                <a:cubicBezTo>
                  <a:pt x="707" y="0"/>
                  <a:pt x="699" y="61"/>
                  <a:pt x="703" y="74"/>
                </a:cubicBezTo>
              </a:path>
            </a:pathLst>
          </a:custGeom>
          <a:noFill/>
          <a:ln w="2844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840360" y="3708360"/>
            <a:ext cx="1152720" cy="814320"/>
          </a:xfrm>
          <a:custGeom>
            <a:avLst/>
            <a:gdLst/>
            <a:ahLst/>
            <a:rect l="l" t="t" r="r" b="b"/>
            <a:pathLst>
              <a:path w="726" h="513">
                <a:moveTo>
                  <a:pt x="0" y="363"/>
                </a:moveTo>
                <a:cubicBezTo>
                  <a:pt x="30" y="438"/>
                  <a:pt x="60" y="513"/>
                  <a:pt x="181" y="453"/>
                </a:cubicBezTo>
                <a:cubicBezTo>
                  <a:pt x="302" y="393"/>
                  <a:pt x="635" y="76"/>
                  <a:pt x="726" y="0"/>
                </a:cubicBezTo>
              </a:path>
            </a:pathLst>
          </a:custGeom>
          <a:noFill/>
          <a:ln w="2844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0360" y="3274920"/>
            <a:ext cx="1224000" cy="1009800"/>
          </a:xfrm>
          <a:custGeom>
            <a:avLst/>
            <a:gdLst/>
            <a:ahLst/>
            <a:rect l="l" t="t" r="r" b="b"/>
            <a:pathLst>
              <a:path w="771" h="636">
                <a:moveTo>
                  <a:pt x="0" y="636"/>
                </a:moveTo>
                <a:cubicBezTo>
                  <a:pt x="98" y="579"/>
                  <a:pt x="197" y="522"/>
                  <a:pt x="272" y="454"/>
                </a:cubicBezTo>
                <a:cubicBezTo>
                  <a:pt x="347" y="386"/>
                  <a:pt x="370" y="303"/>
                  <a:pt x="453" y="227"/>
                </a:cubicBezTo>
                <a:cubicBezTo>
                  <a:pt x="536" y="151"/>
                  <a:pt x="718" y="30"/>
                  <a:pt x="771" y="0"/>
                </a:cubicBezTo>
              </a:path>
            </a:pathLst>
          </a:custGeom>
          <a:noFill/>
          <a:ln w="2844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840360" y="4284720"/>
            <a:ext cx="1152720" cy="226800"/>
          </a:xfrm>
          <a:custGeom>
            <a:avLst/>
            <a:gdLst/>
            <a:ahLst/>
            <a:rect l="l" t="t" r="r" b="b"/>
            <a:pathLst>
              <a:path w="726" h="143">
                <a:moveTo>
                  <a:pt x="0" y="0"/>
                </a:moveTo>
                <a:cubicBezTo>
                  <a:pt x="121" y="64"/>
                  <a:pt x="242" y="129"/>
                  <a:pt x="363" y="136"/>
                </a:cubicBezTo>
                <a:cubicBezTo>
                  <a:pt x="484" y="143"/>
                  <a:pt x="666" y="60"/>
                  <a:pt x="726" y="45"/>
                </a:cubicBezTo>
              </a:path>
            </a:pathLst>
          </a:custGeom>
          <a:noFill/>
          <a:ln w="2844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689440" y="1979640"/>
            <a:ext cx="187200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990099"/>
                </a:solidFill>
                <a:latin typeface="Arial"/>
              </a:rPr>
              <a:t>5-member prediction started 1 Nov 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960720" y="3473280"/>
            <a:ext cx="259236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 every year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993080" y="1889280"/>
            <a:ext cx="259236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ntil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03280" y="3132000"/>
            <a:ext cx="9290160" cy="3456000"/>
          </a:xfrm>
          <a:custGeom>
            <a:avLst/>
            <a:gdLst/>
            <a:ahLst/>
            <a:rect l="l" t="t" r="r" b="b"/>
            <a:pathLst>
              <a:path w="5852" h="2177">
                <a:moveTo>
                  <a:pt x="0" y="2177"/>
                </a:moveTo>
                <a:cubicBezTo>
                  <a:pt x="144" y="2060"/>
                  <a:pt x="288" y="1943"/>
                  <a:pt x="409" y="1905"/>
                </a:cubicBezTo>
                <a:cubicBezTo>
                  <a:pt x="530" y="1867"/>
                  <a:pt x="620" y="1935"/>
                  <a:pt x="726" y="1950"/>
                </a:cubicBezTo>
                <a:cubicBezTo>
                  <a:pt x="832" y="1965"/>
                  <a:pt x="863" y="2041"/>
                  <a:pt x="1044" y="1996"/>
                </a:cubicBezTo>
                <a:cubicBezTo>
                  <a:pt x="1225" y="1951"/>
                  <a:pt x="1558" y="1724"/>
                  <a:pt x="1815" y="1678"/>
                </a:cubicBezTo>
                <a:cubicBezTo>
                  <a:pt x="2072" y="1632"/>
                  <a:pt x="2291" y="1851"/>
                  <a:pt x="2586" y="1723"/>
                </a:cubicBezTo>
                <a:cubicBezTo>
                  <a:pt x="2881" y="1595"/>
                  <a:pt x="3313" y="1083"/>
                  <a:pt x="3584" y="907"/>
                </a:cubicBezTo>
                <a:cubicBezTo>
                  <a:pt x="3855" y="731"/>
                  <a:pt x="4014" y="771"/>
                  <a:pt x="4210" y="665"/>
                </a:cubicBezTo>
                <a:cubicBezTo>
                  <a:pt x="4406" y="559"/>
                  <a:pt x="4527" y="353"/>
                  <a:pt x="4763" y="272"/>
                </a:cubicBezTo>
                <a:cubicBezTo>
                  <a:pt x="4999" y="191"/>
                  <a:pt x="5444" y="226"/>
                  <a:pt x="5625" y="181"/>
                </a:cubicBezTo>
                <a:cubicBezTo>
                  <a:pt x="5806" y="136"/>
                  <a:pt x="5814" y="30"/>
                  <a:pt x="5852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03280" y="5705640"/>
            <a:ext cx="2313000" cy="882360"/>
          </a:xfrm>
          <a:custGeom>
            <a:avLst/>
            <a:gdLst/>
            <a:ahLst/>
            <a:rect l="l" t="t" r="r" b="b"/>
            <a:pathLst>
              <a:path w="1457" h="556">
                <a:moveTo>
                  <a:pt x="0" y="556"/>
                </a:moveTo>
                <a:cubicBezTo>
                  <a:pt x="75" y="435"/>
                  <a:pt x="151" y="315"/>
                  <a:pt x="227" y="239"/>
                </a:cubicBezTo>
                <a:cubicBezTo>
                  <a:pt x="303" y="163"/>
                  <a:pt x="315" y="126"/>
                  <a:pt x="454" y="102"/>
                </a:cubicBezTo>
                <a:cubicBezTo>
                  <a:pt x="593" y="78"/>
                  <a:pt x="898" y="109"/>
                  <a:pt x="1065" y="92"/>
                </a:cubicBezTo>
                <a:cubicBezTo>
                  <a:pt x="1232" y="75"/>
                  <a:pt x="1375" y="19"/>
                  <a:pt x="1457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03280" y="6308640"/>
            <a:ext cx="2313000" cy="279360"/>
          </a:xfrm>
          <a:custGeom>
            <a:avLst/>
            <a:gdLst/>
            <a:ahLst/>
            <a:rect l="l" t="t" r="r" b="b"/>
            <a:pathLst>
              <a:path w="1457" h="176">
                <a:moveTo>
                  <a:pt x="0" y="176"/>
                </a:moveTo>
                <a:cubicBezTo>
                  <a:pt x="45" y="157"/>
                  <a:pt x="91" y="138"/>
                  <a:pt x="182" y="131"/>
                </a:cubicBezTo>
                <a:cubicBezTo>
                  <a:pt x="273" y="124"/>
                  <a:pt x="386" y="147"/>
                  <a:pt x="545" y="131"/>
                </a:cubicBezTo>
                <a:cubicBezTo>
                  <a:pt x="704" y="115"/>
                  <a:pt x="983" y="57"/>
                  <a:pt x="1135" y="35"/>
                </a:cubicBezTo>
                <a:cubicBezTo>
                  <a:pt x="1287" y="13"/>
                  <a:pt x="1390" y="7"/>
                  <a:pt x="1457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03280" y="5467320"/>
            <a:ext cx="2295360" cy="1120680"/>
          </a:xfrm>
          <a:custGeom>
            <a:avLst/>
            <a:gdLst/>
            <a:ahLst/>
            <a:rect l="l" t="t" r="r" b="b"/>
            <a:pathLst>
              <a:path w="1446" h="706">
                <a:moveTo>
                  <a:pt x="0" y="706"/>
                </a:moveTo>
                <a:cubicBezTo>
                  <a:pt x="128" y="664"/>
                  <a:pt x="250" y="622"/>
                  <a:pt x="408" y="570"/>
                </a:cubicBezTo>
                <a:cubicBezTo>
                  <a:pt x="566" y="518"/>
                  <a:pt x="777" y="487"/>
                  <a:pt x="950" y="392"/>
                </a:cubicBezTo>
                <a:cubicBezTo>
                  <a:pt x="1123" y="297"/>
                  <a:pt x="1343" y="82"/>
                  <a:pt x="1446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816360" y="6948360"/>
            <a:ext cx="1944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H="1" flipV="1">
            <a:off x="4392360" y="608436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-71280" y="4340160"/>
            <a:ext cx="187164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5-member prediction started 1 Nov 1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44360" y="7074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63640" y="5003640"/>
            <a:ext cx="2305080" cy="1297080"/>
          </a:xfrm>
          <a:custGeom>
            <a:avLst/>
            <a:gdLst/>
            <a:ahLst/>
            <a:rect l="l" t="t" r="r" b="b"/>
            <a:pathLst>
              <a:path w="1452" h="817">
                <a:moveTo>
                  <a:pt x="0" y="817"/>
                </a:moveTo>
                <a:cubicBezTo>
                  <a:pt x="60" y="669"/>
                  <a:pt x="121" y="521"/>
                  <a:pt x="272" y="408"/>
                </a:cubicBezTo>
                <a:cubicBezTo>
                  <a:pt x="423" y="295"/>
                  <a:pt x="710" y="204"/>
                  <a:pt x="907" y="136"/>
                </a:cubicBezTo>
                <a:cubicBezTo>
                  <a:pt x="1104" y="68"/>
                  <a:pt x="1354" y="23"/>
                  <a:pt x="1452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63640" y="5280120"/>
            <a:ext cx="2305080" cy="1020600"/>
          </a:xfrm>
          <a:custGeom>
            <a:avLst/>
            <a:gdLst/>
            <a:ahLst/>
            <a:rect l="l" t="t" r="r" b="b"/>
            <a:pathLst>
              <a:path w="1452" h="643">
                <a:moveTo>
                  <a:pt x="0" y="643"/>
                </a:moveTo>
                <a:cubicBezTo>
                  <a:pt x="378" y="419"/>
                  <a:pt x="756" y="196"/>
                  <a:pt x="998" y="98"/>
                </a:cubicBezTo>
                <a:cubicBezTo>
                  <a:pt x="1240" y="0"/>
                  <a:pt x="1377" y="68"/>
                  <a:pt x="1452" y="53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63640" y="5940360"/>
            <a:ext cx="2305080" cy="574920"/>
          </a:xfrm>
          <a:custGeom>
            <a:avLst/>
            <a:gdLst/>
            <a:ahLst/>
            <a:rect l="l" t="t" r="r" b="b"/>
            <a:pathLst>
              <a:path w="1452" h="362">
                <a:moveTo>
                  <a:pt x="0" y="227"/>
                </a:moveTo>
                <a:cubicBezTo>
                  <a:pt x="242" y="242"/>
                  <a:pt x="484" y="257"/>
                  <a:pt x="681" y="272"/>
                </a:cubicBezTo>
                <a:cubicBezTo>
                  <a:pt x="878" y="287"/>
                  <a:pt x="1052" y="362"/>
                  <a:pt x="1180" y="317"/>
                </a:cubicBezTo>
                <a:cubicBezTo>
                  <a:pt x="1308" y="272"/>
                  <a:pt x="1407" y="53"/>
                  <a:pt x="1452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31640" y="6804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03280" y="3059280"/>
            <a:ext cx="187164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5-member prediction started 1 Nov 19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03280" y="5578560"/>
            <a:ext cx="2295360" cy="1009440"/>
          </a:xfrm>
          <a:custGeom>
            <a:avLst/>
            <a:gdLst/>
            <a:ahLst/>
            <a:rect l="l" t="t" r="r" b="b"/>
            <a:pathLst>
              <a:path w="1446" h="636">
                <a:moveTo>
                  <a:pt x="0" y="636"/>
                </a:moveTo>
                <a:cubicBezTo>
                  <a:pt x="72" y="601"/>
                  <a:pt x="316" y="520"/>
                  <a:pt x="432" y="426"/>
                </a:cubicBezTo>
                <a:cubicBezTo>
                  <a:pt x="548" y="332"/>
                  <a:pt x="584" y="123"/>
                  <a:pt x="697" y="69"/>
                </a:cubicBezTo>
                <a:cubicBezTo>
                  <a:pt x="810" y="15"/>
                  <a:pt x="986" y="114"/>
                  <a:pt x="1111" y="103"/>
                </a:cubicBezTo>
                <a:cubicBezTo>
                  <a:pt x="1236" y="92"/>
                  <a:pt x="1376" y="21"/>
                  <a:pt x="1446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03280" y="5851440"/>
            <a:ext cx="2295360" cy="754200"/>
          </a:xfrm>
          <a:custGeom>
            <a:avLst/>
            <a:gdLst/>
            <a:ahLst/>
            <a:rect l="l" t="t" r="r" b="b"/>
            <a:pathLst>
              <a:path w="1446" h="475">
                <a:moveTo>
                  <a:pt x="0" y="466"/>
                </a:moveTo>
                <a:cubicBezTo>
                  <a:pt x="85" y="461"/>
                  <a:pt x="344" y="475"/>
                  <a:pt x="512" y="438"/>
                </a:cubicBezTo>
                <a:cubicBezTo>
                  <a:pt x="680" y="401"/>
                  <a:pt x="852" y="315"/>
                  <a:pt x="1008" y="242"/>
                </a:cubicBezTo>
                <a:cubicBezTo>
                  <a:pt x="1164" y="169"/>
                  <a:pt x="1355" y="50"/>
                  <a:pt x="1446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63640" y="5157720"/>
            <a:ext cx="2263680" cy="1143000"/>
          </a:xfrm>
          <a:custGeom>
            <a:avLst/>
            <a:gdLst/>
            <a:ahLst/>
            <a:rect l="l" t="t" r="r" b="b"/>
            <a:pathLst>
              <a:path w="1426" h="720">
                <a:moveTo>
                  <a:pt x="0" y="720"/>
                </a:moveTo>
                <a:cubicBezTo>
                  <a:pt x="99" y="684"/>
                  <a:pt x="432" y="590"/>
                  <a:pt x="596" y="507"/>
                </a:cubicBezTo>
                <a:cubicBezTo>
                  <a:pt x="760" y="424"/>
                  <a:pt x="850" y="303"/>
                  <a:pt x="988" y="219"/>
                </a:cubicBezTo>
                <a:cubicBezTo>
                  <a:pt x="1126" y="135"/>
                  <a:pt x="1335" y="46"/>
                  <a:pt x="1426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4360" y="1979640"/>
            <a:ext cx="3888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xperimental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40000" y="5075280"/>
            <a:ext cx="2087280" cy="1081080"/>
          </a:xfrm>
          <a:custGeom>
            <a:avLst/>
            <a:gdLst/>
            <a:ahLst/>
            <a:rect l="l" t="t" r="r" b="b"/>
            <a:pathLst>
              <a:path w="1315" h="681">
                <a:moveTo>
                  <a:pt x="0" y="681"/>
                </a:moveTo>
                <a:cubicBezTo>
                  <a:pt x="230" y="669"/>
                  <a:pt x="461" y="658"/>
                  <a:pt x="680" y="545"/>
                </a:cubicBezTo>
                <a:cubicBezTo>
                  <a:pt x="899" y="432"/>
                  <a:pt x="1209" y="91"/>
                  <a:pt x="1315" y="0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440000" y="6156360"/>
            <a:ext cx="2016000" cy="514440"/>
          </a:xfrm>
          <a:custGeom>
            <a:avLst/>
            <a:gdLst/>
            <a:ahLst/>
            <a:rect l="l" t="t" r="r" b="b"/>
            <a:pathLst>
              <a:path w="1270" h="324">
                <a:moveTo>
                  <a:pt x="0" y="0"/>
                </a:moveTo>
                <a:cubicBezTo>
                  <a:pt x="347" y="155"/>
                  <a:pt x="695" y="310"/>
                  <a:pt x="907" y="317"/>
                </a:cubicBezTo>
                <a:cubicBezTo>
                  <a:pt x="1119" y="324"/>
                  <a:pt x="1210" y="90"/>
                  <a:pt x="1270" y="45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295280" y="5940360"/>
            <a:ext cx="2160720" cy="468360"/>
          </a:xfrm>
          <a:custGeom>
            <a:avLst/>
            <a:gdLst/>
            <a:ahLst/>
            <a:rect l="l" t="t" r="r" b="b"/>
            <a:pathLst>
              <a:path w="1361" h="295">
                <a:moveTo>
                  <a:pt x="0" y="136"/>
                </a:moveTo>
                <a:cubicBezTo>
                  <a:pt x="340" y="215"/>
                  <a:pt x="681" y="295"/>
                  <a:pt x="908" y="272"/>
                </a:cubicBezTo>
                <a:cubicBezTo>
                  <a:pt x="1135" y="249"/>
                  <a:pt x="1293" y="38"/>
                  <a:pt x="1361" y="0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295280" y="5508720"/>
            <a:ext cx="2159280" cy="647640"/>
          </a:xfrm>
          <a:custGeom>
            <a:avLst/>
            <a:gdLst/>
            <a:ahLst/>
            <a:rect l="l" t="t" r="r" b="b"/>
            <a:pathLst>
              <a:path w="1360" h="408">
                <a:moveTo>
                  <a:pt x="0" y="408"/>
                </a:moveTo>
                <a:cubicBezTo>
                  <a:pt x="187" y="368"/>
                  <a:pt x="892" y="238"/>
                  <a:pt x="1119" y="170"/>
                </a:cubicBezTo>
                <a:cubicBezTo>
                  <a:pt x="1346" y="102"/>
                  <a:pt x="1310" y="35"/>
                  <a:pt x="1360" y="0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295280" y="6156360"/>
            <a:ext cx="2089440" cy="144360"/>
          </a:xfrm>
          <a:custGeom>
            <a:avLst/>
            <a:gdLst/>
            <a:ahLst/>
            <a:rect l="l" t="t" r="r" b="b"/>
            <a:pathLst>
              <a:path w="1316" h="91">
                <a:moveTo>
                  <a:pt x="0" y="0"/>
                </a:moveTo>
                <a:cubicBezTo>
                  <a:pt x="253" y="15"/>
                  <a:pt x="507" y="30"/>
                  <a:pt x="726" y="45"/>
                </a:cubicBezTo>
                <a:cubicBezTo>
                  <a:pt x="945" y="60"/>
                  <a:pt x="1210" y="83"/>
                  <a:pt x="1316" y="91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92000" y="7074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016000" y="3481560"/>
            <a:ext cx="187164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Arial"/>
              </a:rPr>
              <a:t>5-member prediction started 1 Nov 19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9290160" y="7020000"/>
            <a:ext cx="9349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553080" y="7020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63640" y="5580000"/>
            <a:ext cx="2305080" cy="720720"/>
          </a:xfrm>
          <a:custGeom>
            <a:avLst/>
            <a:gdLst/>
            <a:ahLst/>
            <a:rect l="l" t="t" r="r" b="b"/>
            <a:pathLst>
              <a:path w="1452" h="454">
                <a:moveTo>
                  <a:pt x="0" y="454"/>
                </a:moveTo>
                <a:cubicBezTo>
                  <a:pt x="151" y="416"/>
                  <a:pt x="303" y="378"/>
                  <a:pt x="454" y="363"/>
                </a:cubicBezTo>
                <a:cubicBezTo>
                  <a:pt x="605" y="348"/>
                  <a:pt x="779" y="378"/>
                  <a:pt x="907" y="363"/>
                </a:cubicBezTo>
                <a:cubicBezTo>
                  <a:pt x="1035" y="348"/>
                  <a:pt x="1134" y="332"/>
                  <a:pt x="1225" y="272"/>
                </a:cubicBezTo>
                <a:cubicBezTo>
                  <a:pt x="1316" y="212"/>
                  <a:pt x="1414" y="45"/>
                  <a:pt x="1452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840360" y="2989440"/>
            <a:ext cx="1152720" cy="1295280"/>
          </a:xfrm>
          <a:custGeom>
            <a:avLst/>
            <a:gdLst/>
            <a:ahLst/>
            <a:rect l="l" t="t" r="r" b="b"/>
            <a:pathLst>
              <a:path w="726" h="816">
                <a:moveTo>
                  <a:pt x="0" y="816"/>
                </a:moveTo>
                <a:cubicBezTo>
                  <a:pt x="45" y="691"/>
                  <a:pt x="90" y="566"/>
                  <a:pt x="181" y="453"/>
                </a:cubicBezTo>
                <a:cubicBezTo>
                  <a:pt x="272" y="340"/>
                  <a:pt x="453" y="211"/>
                  <a:pt x="544" y="136"/>
                </a:cubicBezTo>
                <a:cubicBezTo>
                  <a:pt x="635" y="61"/>
                  <a:pt x="696" y="15"/>
                  <a:pt x="726" y="0"/>
                </a:cubicBezTo>
              </a:path>
            </a:pathLst>
          </a:custGeom>
          <a:noFill/>
          <a:ln w="2844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912000" y="3905280"/>
            <a:ext cx="1122480" cy="403200"/>
          </a:xfrm>
          <a:custGeom>
            <a:avLst/>
            <a:gdLst/>
            <a:ahLst/>
            <a:rect l="l" t="t" r="r" b="b"/>
            <a:pathLst>
              <a:path w="707" h="254">
                <a:moveTo>
                  <a:pt x="0" y="239"/>
                </a:moveTo>
                <a:cubicBezTo>
                  <a:pt x="91" y="246"/>
                  <a:pt x="182" y="254"/>
                  <a:pt x="273" y="239"/>
                </a:cubicBezTo>
                <a:cubicBezTo>
                  <a:pt x="364" y="224"/>
                  <a:pt x="477" y="186"/>
                  <a:pt x="545" y="148"/>
                </a:cubicBezTo>
                <a:cubicBezTo>
                  <a:pt x="613" y="110"/>
                  <a:pt x="655" y="24"/>
                  <a:pt x="681" y="12"/>
                </a:cubicBezTo>
                <a:cubicBezTo>
                  <a:pt x="707" y="0"/>
                  <a:pt x="699" y="61"/>
                  <a:pt x="703" y="74"/>
                </a:cubicBezTo>
              </a:path>
            </a:pathLst>
          </a:custGeom>
          <a:noFill/>
          <a:ln w="2844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840360" y="3708360"/>
            <a:ext cx="1152720" cy="814320"/>
          </a:xfrm>
          <a:custGeom>
            <a:avLst/>
            <a:gdLst/>
            <a:ahLst/>
            <a:rect l="l" t="t" r="r" b="b"/>
            <a:pathLst>
              <a:path w="726" h="513">
                <a:moveTo>
                  <a:pt x="0" y="363"/>
                </a:moveTo>
                <a:cubicBezTo>
                  <a:pt x="30" y="438"/>
                  <a:pt x="60" y="513"/>
                  <a:pt x="181" y="453"/>
                </a:cubicBezTo>
                <a:cubicBezTo>
                  <a:pt x="302" y="393"/>
                  <a:pt x="635" y="76"/>
                  <a:pt x="726" y="0"/>
                </a:cubicBezTo>
              </a:path>
            </a:pathLst>
          </a:custGeom>
          <a:noFill/>
          <a:ln w="2844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840360" y="3274920"/>
            <a:ext cx="1224000" cy="1009800"/>
          </a:xfrm>
          <a:custGeom>
            <a:avLst/>
            <a:gdLst/>
            <a:ahLst/>
            <a:rect l="l" t="t" r="r" b="b"/>
            <a:pathLst>
              <a:path w="771" h="636">
                <a:moveTo>
                  <a:pt x="0" y="636"/>
                </a:moveTo>
                <a:cubicBezTo>
                  <a:pt x="98" y="579"/>
                  <a:pt x="197" y="522"/>
                  <a:pt x="272" y="454"/>
                </a:cubicBezTo>
                <a:cubicBezTo>
                  <a:pt x="347" y="386"/>
                  <a:pt x="370" y="303"/>
                  <a:pt x="453" y="227"/>
                </a:cubicBezTo>
                <a:cubicBezTo>
                  <a:pt x="536" y="151"/>
                  <a:pt x="718" y="30"/>
                  <a:pt x="771" y="0"/>
                </a:cubicBezTo>
              </a:path>
            </a:pathLst>
          </a:custGeom>
          <a:noFill/>
          <a:ln w="2844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840360" y="4284720"/>
            <a:ext cx="1152720" cy="226800"/>
          </a:xfrm>
          <a:custGeom>
            <a:avLst/>
            <a:gdLst/>
            <a:ahLst/>
            <a:rect l="l" t="t" r="r" b="b"/>
            <a:pathLst>
              <a:path w="726" h="143">
                <a:moveTo>
                  <a:pt x="0" y="0"/>
                </a:moveTo>
                <a:cubicBezTo>
                  <a:pt x="121" y="64"/>
                  <a:pt x="242" y="129"/>
                  <a:pt x="363" y="136"/>
                </a:cubicBezTo>
                <a:cubicBezTo>
                  <a:pt x="484" y="143"/>
                  <a:pt x="666" y="60"/>
                  <a:pt x="726" y="45"/>
                </a:cubicBezTo>
              </a:path>
            </a:pathLst>
          </a:custGeom>
          <a:noFill/>
          <a:ln w="2844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689440" y="1979640"/>
            <a:ext cx="187200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990099"/>
                </a:solidFill>
                <a:latin typeface="Arial"/>
              </a:rPr>
              <a:t>5-member prediction started 1 Nov 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960720" y="3473280"/>
            <a:ext cx="259236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 every year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993080" y="1889280"/>
            <a:ext cx="259236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ntil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191280" y="4657680"/>
            <a:ext cx="37447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reenhouse Gases + Aerosols + Solar Cycle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904000" y="5940360"/>
            <a:ext cx="41767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MIP5                      historical / 2005 / RCP4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7704000" y="5579280"/>
            <a:ext cx="71928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60360" y="6875640"/>
            <a:ext cx="431640" cy="537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1152360" y="1397160"/>
            <a:ext cx="7344000" cy="56750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422720" y="6908760"/>
            <a:ext cx="76482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Arial"/>
              </a:rPr>
              <a:t>A steady increase in greenhouse gas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" descr=""/>
          <p:cNvPicPr/>
          <p:nvPr/>
        </p:nvPicPr>
        <p:blipFill>
          <a:blip r:embed="rId1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3"/>
          <a:stretch/>
        </p:blipFill>
        <p:spPr>
          <a:xfrm>
            <a:off x="1584360" y="2338560"/>
            <a:ext cx="7272360" cy="482580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216000" y="1940040"/>
            <a:ext cx="143964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Model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" descr=""/>
          <p:cNvPicPr/>
          <p:nvPr/>
        </p:nvPicPr>
        <p:blipFill>
          <a:blip r:embed="rId1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3"/>
          <a:stretch/>
        </p:blipFill>
        <p:spPr>
          <a:xfrm>
            <a:off x="1584360" y="2338560"/>
            <a:ext cx="7272360" cy="482580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216000" y="1940040"/>
            <a:ext cx="4032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Full field Initialisa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47640" y="3132000"/>
            <a:ext cx="9433080" cy="12970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800360" y="2556000"/>
            <a:ext cx="6192720" cy="47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ERA40/ERAinter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224000" y="5581800"/>
            <a:ext cx="3816360" cy="718920"/>
          </a:xfrm>
          <a:prstGeom prst="ellipse">
            <a:avLst/>
          </a:prstGeom>
          <a:noFill/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5037120"/>
            <a:ext cx="1511280" cy="47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990099"/>
                </a:solidFill>
                <a:latin typeface="Arial"/>
              </a:rPr>
              <a:t>ORAS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224000" y="6229440"/>
            <a:ext cx="3816360" cy="718920"/>
          </a:xfrm>
          <a:prstGeom prst="ellipse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616720" y="5364000"/>
            <a:ext cx="3384360" cy="19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9900"/>
                </a:solidFill>
                <a:latin typeface="Arial"/>
              </a:rPr>
              <a:t>GLORYS2V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9900"/>
                </a:solidFill>
                <a:latin typeface="Arial"/>
              </a:rPr>
              <a:t>+ NEMO-LIM run forced by DFS4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1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2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03280" y="3132000"/>
            <a:ext cx="9290160" cy="3456000"/>
          </a:xfrm>
          <a:custGeom>
            <a:avLst/>
            <a:gdLst/>
            <a:ahLst/>
            <a:rect l="l" t="t" r="r" b="b"/>
            <a:pathLst>
              <a:path w="5852" h="2177">
                <a:moveTo>
                  <a:pt x="0" y="2177"/>
                </a:moveTo>
                <a:cubicBezTo>
                  <a:pt x="144" y="2060"/>
                  <a:pt x="288" y="1943"/>
                  <a:pt x="409" y="1905"/>
                </a:cubicBezTo>
                <a:cubicBezTo>
                  <a:pt x="530" y="1867"/>
                  <a:pt x="620" y="1935"/>
                  <a:pt x="726" y="1950"/>
                </a:cubicBezTo>
                <a:cubicBezTo>
                  <a:pt x="832" y="1965"/>
                  <a:pt x="863" y="2041"/>
                  <a:pt x="1044" y="1996"/>
                </a:cubicBezTo>
                <a:cubicBezTo>
                  <a:pt x="1225" y="1951"/>
                  <a:pt x="1558" y="1724"/>
                  <a:pt x="1815" y="1678"/>
                </a:cubicBezTo>
                <a:cubicBezTo>
                  <a:pt x="2072" y="1632"/>
                  <a:pt x="2291" y="1851"/>
                  <a:pt x="2586" y="1723"/>
                </a:cubicBezTo>
                <a:cubicBezTo>
                  <a:pt x="2881" y="1595"/>
                  <a:pt x="3313" y="1083"/>
                  <a:pt x="3584" y="907"/>
                </a:cubicBezTo>
                <a:cubicBezTo>
                  <a:pt x="3855" y="731"/>
                  <a:pt x="4014" y="771"/>
                  <a:pt x="4210" y="665"/>
                </a:cubicBezTo>
                <a:cubicBezTo>
                  <a:pt x="4406" y="559"/>
                  <a:pt x="4527" y="353"/>
                  <a:pt x="4763" y="272"/>
                </a:cubicBezTo>
                <a:cubicBezTo>
                  <a:pt x="4999" y="191"/>
                  <a:pt x="5444" y="226"/>
                  <a:pt x="5625" y="181"/>
                </a:cubicBezTo>
                <a:cubicBezTo>
                  <a:pt x="5806" y="136"/>
                  <a:pt x="5814" y="30"/>
                  <a:pt x="5852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03280" y="5705640"/>
            <a:ext cx="2313000" cy="882360"/>
          </a:xfrm>
          <a:custGeom>
            <a:avLst/>
            <a:gdLst/>
            <a:ahLst/>
            <a:rect l="l" t="t" r="r" b="b"/>
            <a:pathLst>
              <a:path w="1457" h="556">
                <a:moveTo>
                  <a:pt x="0" y="556"/>
                </a:moveTo>
                <a:cubicBezTo>
                  <a:pt x="75" y="435"/>
                  <a:pt x="151" y="315"/>
                  <a:pt x="227" y="239"/>
                </a:cubicBezTo>
                <a:cubicBezTo>
                  <a:pt x="303" y="163"/>
                  <a:pt x="315" y="126"/>
                  <a:pt x="454" y="102"/>
                </a:cubicBezTo>
                <a:cubicBezTo>
                  <a:pt x="593" y="78"/>
                  <a:pt x="898" y="109"/>
                  <a:pt x="1065" y="92"/>
                </a:cubicBezTo>
                <a:cubicBezTo>
                  <a:pt x="1232" y="75"/>
                  <a:pt x="1375" y="19"/>
                  <a:pt x="1457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03280" y="6308640"/>
            <a:ext cx="2313000" cy="279360"/>
          </a:xfrm>
          <a:custGeom>
            <a:avLst/>
            <a:gdLst/>
            <a:ahLst/>
            <a:rect l="l" t="t" r="r" b="b"/>
            <a:pathLst>
              <a:path w="1457" h="176">
                <a:moveTo>
                  <a:pt x="0" y="176"/>
                </a:moveTo>
                <a:cubicBezTo>
                  <a:pt x="45" y="157"/>
                  <a:pt x="91" y="138"/>
                  <a:pt x="182" y="131"/>
                </a:cubicBezTo>
                <a:cubicBezTo>
                  <a:pt x="273" y="124"/>
                  <a:pt x="386" y="147"/>
                  <a:pt x="545" y="131"/>
                </a:cubicBezTo>
                <a:cubicBezTo>
                  <a:pt x="704" y="115"/>
                  <a:pt x="983" y="57"/>
                  <a:pt x="1135" y="35"/>
                </a:cubicBezTo>
                <a:cubicBezTo>
                  <a:pt x="1287" y="13"/>
                  <a:pt x="1390" y="7"/>
                  <a:pt x="1457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03280" y="5467320"/>
            <a:ext cx="2295360" cy="1120680"/>
          </a:xfrm>
          <a:custGeom>
            <a:avLst/>
            <a:gdLst/>
            <a:ahLst/>
            <a:rect l="l" t="t" r="r" b="b"/>
            <a:pathLst>
              <a:path w="1446" h="706">
                <a:moveTo>
                  <a:pt x="0" y="706"/>
                </a:moveTo>
                <a:cubicBezTo>
                  <a:pt x="128" y="664"/>
                  <a:pt x="250" y="622"/>
                  <a:pt x="408" y="570"/>
                </a:cubicBezTo>
                <a:cubicBezTo>
                  <a:pt x="566" y="518"/>
                  <a:pt x="777" y="487"/>
                  <a:pt x="950" y="392"/>
                </a:cubicBezTo>
                <a:cubicBezTo>
                  <a:pt x="1123" y="297"/>
                  <a:pt x="1343" y="82"/>
                  <a:pt x="1446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816360" y="6948360"/>
            <a:ext cx="1944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 flipV="1">
            <a:off x="4392360" y="608436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44360" y="7074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863640" y="5003640"/>
            <a:ext cx="2305080" cy="1297080"/>
          </a:xfrm>
          <a:custGeom>
            <a:avLst/>
            <a:gdLst/>
            <a:ahLst/>
            <a:rect l="l" t="t" r="r" b="b"/>
            <a:pathLst>
              <a:path w="1452" h="817">
                <a:moveTo>
                  <a:pt x="0" y="817"/>
                </a:moveTo>
                <a:cubicBezTo>
                  <a:pt x="60" y="669"/>
                  <a:pt x="121" y="521"/>
                  <a:pt x="272" y="408"/>
                </a:cubicBezTo>
                <a:cubicBezTo>
                  <a:pt x="423" y="295"/>
                  <a:pt x="710" y="204"/>
                  <a:pt x="907" y="136"/>
                </a:cubicBezTo>
                <a:cubicBezTo>
                  <a:pt x="1104" y="68"/>
                  <a:pt x="1354" y="23"/>
                  <a:pt x="1452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863640" y="5280120"/>
            <a:ext cx="2305080" cy="1020600"/>
          </a:xfrm>
          <a:custGeom>
            <a:avLst/>
            <a:gdLst/>
            <a:ahLst/>
            <a:rect l="l" t="t" r="r" b="b"/>
            <a:pathLst>
              <a:path w="1452" h="643">
                <a:moveTo>
                  <a:pt x="0" y="643"/>
                </a:moveTo>
                <a:cubicBezTo>
                  <a:pt x="378" y="419"/>
                  <a:pt x="756" y="196"/>
                  <a:pt x="998" y="98"/>
                </a:cubicBezTo>
                <a:cubicBezTo>
                  <a:pt x="1240" y="0"/>
                  <a:pt x="1377" y="68"/>
                  <a:pt x="1452" y="53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863640" y="5940360"/>
            <a:ext cx="2305080" cy="574920"/>
          </a:xfrm>
          <a:custGeom>
            <a:avLst/>
            <a:gdLst/>
            <a:ahLst/>
            <a:rect l="l" t="t" r="r" b="b"/>
            <a:pathLst>
              <a:path w="1452" h="362">
                <a:moveTo>
                  <a:pt x="0" y="227"/>
                </a:moveTo>
                <a:cubicBezTo>
                  <a:pt x="242" y="242"/>
                  <a:pt x="484" y="257"/>
                  <a:pt x="681" y="272"/>
                </a:cubicBezTo>
                <a:cubicBezTo>
                  <a:pt x="878" y="287"/>
                  <a:pt x="1052" y="362"/>
                  <a:pt x="1180" y="317"/>
                </a:cubicBezTo>
                <a:cubicBezTo>
                  <a:pt x="1308" y="272"/>
                  <a:pt x="1407" y="53"/>
                  <a:pt x="1452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31640" y="6804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03280" y="5578560"/>
            <a:ext cx="2295360" cy="1009440"/>
          </a:xfrm>
          <a:custGeom>
            <a:avLst/>
            <a:gdLst/>
            <a:ahLst/>
            <a:rect l="l" t="t" r="r" b="b"/>
            <a:pathLst>
              <a:path w="1446" h="636">
                <a:moveTo>
                  <a:pt x="0" y="636"/>
                </a:moveTo>
                <a:cubicBezTo>
                  <a:pt x="72" y="601"/>
                  <a:pt x="316" y="520"/>
                  <a:pt x="432" y="426"/>
                </a:cubicBezTo>
                <a:cubicBezTo>
                  <a:pt x="548" y="332"/>
                  <a:pt x="584" y="123"/>
                  <a:pt x="697" y="69"/>
                </a:cubicBezTo>
                <a:cubicBezTo>
                  <a:pt x="810" y="15"/>
                  <a:pt x="986" y="114"/>
                  <a:pt x="1111" y="103"/>
                </a:cubicBezTo>
                <a:cubicBezTo>
                  <a:pt x="1236" y="92"/>
                  <a:pt x="1376" y="21"/>
                  <a:pt x="1446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03280" y="5851440"/>
            <a:ext cx="2295360" cy="754200"/>
          </a:xfrm>
          <a:custGeom>
            <a:avLst/>
            <a:gdLst/>
            <a:ahLst/>
            <a:rect l="l" t="t" r="r" b="b"/>
            <a:pathLst>
              <a:path w="1446" h="475">
                <a:moveTo>
                  <a:pt x="0" y="466"/>
                </a:moveTo>
                <a:cubicBezTo>
                  <a:pt x="85" y="461"/>
                  <a:pt x="344" y="475"/>
                  <a:pt x="512" y="438"/>
                </a:cubicBezTo>
                <a:cubicBezTo>
                  <a:pt x="680" y="401"/>
                  <a:pt x="852" y="315"/>
                  <a:pt x="1008" y="242"/>
                </a:cubicBezTo>
                <a:cubicBezTo>
                  <a:pt x="1164" y="169"/>
                  <a:pt x="1355" y="50"/>
                  <a:pt x="1446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863640" y="5157720"/>
            <a:ext cx="2263680" cy="1143000"/>
          </a:xfrm>
          <a:custGeom>
            <a:avLst/>
            <a:gdLst/>
            <a:ahLst/>
            <a:rect l="l" t="t" r="r" b="b"/>
            <a:pathLst>
              <a:path w="1426" h="720">
                <a:moveTo>
                  <a:pt x="0" y="720"/>
                </a:moveTo>
                <a:cubicBezTo>
                  <a:pt x="99" y="684"/>
                  <a:pt x="432" y="590"/>
                  <a:pt x="596" y="507"/>
                </a:cubicBezTo>
                <a:cubicBezTo>
                  <a:pt x="760" y="424"/>
                  <a:pt x="850" y="303"/>
                  <a:pt x="988" y="219"/>
                </a:cubicBezTo>
                <a:cubicBezTo>
                  <a:pt x="1126" y="135"/>
                  <a:pt x="1335" y="46"/>
                  <a:pt x="1426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440000" y="5075280"/>
            <a:ext cx="2087280" cy="1081080"/>
          </a:xfrm>
          <a:custGeom>
            <a:avLst/>
            <a:gdLst/>
            <a:ahLst/>
            <a:rect l="l" t="t" r="r" b="b"/>
            <a:pathLst>
              <a:path w="1315" h="681">
                <a:moveTo>
                  <a:pt x="0" y="681"/>
                </a:moveTo>
                <a:cubicBezTo>
                  <a:pt x="230" y="669"/>
                  <a:pt x="461" y="658"/>
                  <a:pt x="680" y="545"/>
                </a:cubicBezTo>
                <a:cubicBezTo>
                  <a:pt x="899" y="432"/>
                  <a:pt x="1209" y="91"/>
                  <a:pt x="1315" y="0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440000" y="6156360"/>
            <a:ext cx="2016000" cy="514440"/>
          </a:xfrm>
          <a:custGeom>
            <a:avLst/>
            <a:gdLst/>
            <a:ahLst/>
            <a:rect l="l" t="t" r="r" b="b"/>
            <a:pathLst>
              <a:path w="1270" h="324">
                <a:moveTo>
                  <a:pt x="0" y="0"/>
                </a:moveTo>
                <a:cubicBezTo>
                  <a:pt x="347" y="155"/>
                  <a:pt x="695" y="310"/>
                  <a:pt x="907" y="317"/>
                </a:cubicBezTo>
                <a:cubicBezTo>
                  <a:pt x="1119" y="324"/>
                  <a:pt x="1210" y="90"/>
                  <a:pt x="1270" y="45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295280" y="5940360"/>
            <a:ext cx="2160720" cy="468360"/>
          </a:xfrm>
          <a:custGeom>
            <a:avLst/>
            <a:gdLst/>
            <a:ahLst/>
            <a:rect l="l" t="t" r="r" b="b"/>
            <a:pathLst>
              <a:path w="1361" h="295">
                <a:moveTo>
                  <a:pt x="0" y="136"/>
                </a:moveTo>
                <a:cubicBezTo>
                  <a:pt x="340" y="215"/>
                  <a:pt x="681" y="295"/>
                  <a:pt x="908" y="272"/>
                </a:cubicBezTo>
                <a:cubicBezTo>
                  <a:pt x="1135" y="249"/>
                  <a:pt x="1293" y="38"/>
                  <a:pt x="1361" y="0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295280" y="5508720"/>
            <a:ext cx="2159280" cy="647640"/>
          </a:xfrm>
          <a:custGeom>
            <a:avLst/>
            <a:gdLst/>
            <a:ahLst/>
            <a:rect l="l" t="t" r="r" b="b"/>
            <a:pathLst>
              <a:path w="1360" h="408">
                <a:moveTo>
                  <a:pt x="0" y="408"/>
                </a:moveTo>
                <a:cubicBezTo>
                  <a:pt x="187" y="368"/>
                  <a:pt x="892" y="238"/>
                  <a:pt x="1119" y="170"/>
                </a:cubicBezTo>
                <a:cubicBezTo>
                  <a:pt x="1346" y="102"/>
                  <a:pt x="1310" y="35"/>
                  <a:pt x="1360" y="0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295280" y="6156360"/>
            <a:ext cx="2089440" cy="144360"/>
          </a:xfrm>
          <a:custGeom>
            <a:avLst/>
            <a:gdLst/>
            <a:ahLst/>
            <a:rect l="l" t="t" r="r" b="b"/>
            <a:pathLst>
              <a:path w="1316" h="91">
                <a:moveTo>
                  <a:pt x="0" y="0"/>
                </a:moveTo>
                <a:cubicBezTo>
                  <a:pt x="253" y="15"/>
                  <a:pt x="507" y="30"/>
                  <a:pt x="726" y="45"/>
                </a:cubicBezTo>
                <a:cubicBezTo>
                  <a:pt x="945" y="60"/>
                  <a:pt x="1210" y="83"/>
                  <a:pt x="1316" y="91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92000" y="7074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9290160" y="7020000"/>
            <a:ext cx="9349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553080" y="7020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863640" y="5580000"/>
            <a:ext cx="2305080" cy="720720"/>
          </a:xfrm>
          <a:custGeom>
            <a:avLst/>
            <a:gdLst/>
            <a:ahLst/>
            <a:rect l="l" t="t" r="r" b="b"/>
            <a:pathLst>
              <a:path w="1452" h="454">
                <a:moveTo>
                  <a:pt x="0" y="454"/>
                </a:moveTo>
                <a:cubicBezTo>
                  <a:pt x="151" y="416"/>
                  <a:pt x="303" y="378"/>
                  <a:pt x="454" y="363"/>
                </a:cubicBezTo>
                <a:cubicBezTo>
                  <a:pt x="605" y="348"/>
                  <a:pt x="779" y="378"/>
                  <a:pt x="907" y="363"/>
                </a:cubicBezTo>
                <a:cubicBezTo>
                  <a:pt x="1035" y="348"/>
                  <a:pt x="1134" y="332"/>
                  <a:pt x="1225" y="272"/>
                </a:cubicBezTo>
                <a:cubicBezTo>
                  <a:pt x="1316" y="212"/>
                  <a:pt x="1414" y="45"/>
                  <a:pt x="1452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840360" y="2989440"/>
            <a:ext cx="1152720" cy="1295280"/>
          </a:xfrm>
          <a:custGeom>
            <a:avLst/>
            <a:gdLst/>
            <a:ahLst/>
            <a:rect l="l" t="t" r="r" b="b"/>
            <a:pathLst>
              <a:path w="726" h="816">
                <a:moveTo>
                  <a:pt x="0" y="816"/>
                </a:moveTo>
                <a:cubicBezTo>
                  <a:pt x="45" y="691"/>
                  <a:pt x="90" y="566"/>
                  <a:pt x="181" y="453"/>
                </a:cubicBezTo>
                <a:cubicBezTo>
                  <a:pt x="272" y="340"/>
                  <a:pt x="453" y="211"/>
                  <a:pt x="544" y="136"/>
                </a:cubicBezTo>
                <a:cubicBezTo>
                  <a:pt x="635" y="61"/>
                  <a:pt x="696" y="15"/>
                  <a:pt x="726" y="0"/>
                </a:cubicBezTo>
              </a:path>
            </a:pathLst>
          </a:custGeom>
          <a:noFill/>
          <a:ln w="2844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912000" y="3905280"/>
            <a:ext cx="1122480" cy="403200"/>
          </a:xfrm>
          <a:custGeom>
            <a:avLst/>
            <a:gdLst/>
            <a:ahLst/>
            <a:rect l="l" t="t" r="r" b="b"/>
            <a:pathLst>
              <a:path w="707" h="254">
                <a:moveTo>
                  <a:pt x="0" y="239"/>
                </a:moveTo>
                <a:cubicBezTo>
                  <a:pt x="91" y="246"/>
                  <a:pt x="182" y="254"/>
                  <a:pt x="273" y="239"/>
                </a:cubicBezTo>
                <a:cubicBezTo>
                  <a:pt x="364" y="224"/>
                  <a:pt x="477" y="186"/>
                  <a:pt x="545" y="148"/>
                </a:cubicBezTo>
                <a:cubicBezTo>
                  <a:pt x="613" y="110"/>
                  <a:pt x="655" y="24"/>
                  <a:pt x="681" y="12"/>
                </a:cubicBezTo>
                <a:cubicBezTo>
                  <a:pt x="707" y="0"/>
                  <a:pt x="699" y="61"/>
                  <a:pt x="703" y="74"/>
                </a:cubicBezTo>
              </a:path>
            </a:pathLst>
          </a:custGeom>
          <a:noFill/>
          <a:ln w="2844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840360" y="3708360"/>
            <a:ext cx="1152720" cy="814320"/>
          </a:xfrm>
          <a:custGeom>
            <a:avLst/>
            <a:gdLst/>
            <a:ahLst/>
            <a:rect l="l" t="t" r="r" b="b"/>
            <a:pathLst>
              <a:path w="726" h="513">
                <a:moveTo>
                  <a:pt x="0" y="363"/>
                </a:moveTo>
                <a:cubicBezTo>
                  <a:pt x="30" y="438"/>
                  <a:pt x="60" y="513"/>
                  <a:pt x="181" y="453"/>
                </a:cubicBezTo>
                <a:cubicBezTo>
                  <a:pt x="302" y="393"/>
                  <a:pt x="635" y="76"/>
                  <a:pt x="726" y="0"/>
                </a:cubicBezTo>
              </a:path>
            </a:pathLst>
          </a:custGeom>
          <a:noFill/>
          <a:ln w="2844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840360" y="3274920"/>
            <a:ext cx="1224000" cy="1009800"/>
          </a:xfrm>
          <a:custGeom>
            <a:avLst/>
            <a:gdLst/>
            <a:ahLst/>
            <a:rect l="l" t="t" r="r" b="b"/>
            <a:pathLst>
              <a:path w="771" h="636">
                <a:moveTo>
                  <a:pt x="0" y="636"/>
                </a:moveTo>
                <a:cubicBezTo>
                  <a:pt x="98" y="579"/>
                  <a:pt x="197" y="522"/>
                  <a:pt x="272" y="454"/>
                </a:cubicBezTo>
                <a:cubicBezTo>
                  <a:pt x="347" y="386"/>
                  <a:pt x="370" y="303"/>
                  <a:pt x="453" y="227"/>
                </a:cubicBezTo>
                <a:cubicBezTo>
                  <a:pt x="536" y="151"/>
                  <a:pt x="718" y="30"/>
                  <a:pt x="771" y="0"/>
                </a:cubicBezTo>
              </a:path>
            </a:pathLst>
          </a:custGeom>
          <a:noFill/>
          <a:ln w="2844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840360" y="4284720"/>
            <a:ext cx="1152720" cy="226800"/>
          </a:xfrm>
          <a:custGeom>
            <a:avLst/>
            <a:gdLst/>
            <a:ahLst/>
            <a:rect l="l" t="t" r="r" b="b"/>
            <a:pathLst>
              <a:path w="726" h="143">
                <a:moveTo>
                  <a:pt x="0" y="0"/>
                </a:moveTo>
                <a:cubicBezTo>
                  <a:pt x="121" y="64"/>
                  <a:pt x="242" y="129"/>
                  <a:pt x="363" y="136"/>
                </a:cubicBezTo>
                <a:cubicBezTo>
                  <a:pt x="484" y="143"/>
                  <a:pt x="666" y="60"/>
                  <a:pt x="726" y="45"/>
                </a:cubicBezTo>
              </a:path>
            </a:pathLst>
          </a:custGeom>
          <a:noFill/>
          <a:ln w="2844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44360" y="1979640"/>
            <a:ext cx="3888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naly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664000" y="2050920"/>
            <a:ext cx="48243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ample : Focus on 3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orecast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" descr=""/>
          <p:cNvPicPr/>
          <p:nvPr/>
        </p:nvPicPr>
        <p:blipFill>
          <a:blip r:embed="rId1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03280" y="3132000"/>
            <a:ext cx="9290160" cy="3456000"/>
          </a:xfrm>
          <a:custGeom>
            <a:avLst/>
            <a:gdLst/>
            <a:ahLst/>
            <a:rect l="l" t="t" r="r" b="b"/>
            <a:pathLst>
              <a:path w="5852" h="2177">
                <a:moveTo>
                  <a:pt x="0" y="2177"/>
                </a:moveTo>
                <a:cubicBezTo>
                  <a:pt x="144" y="2060"/>
                  <a:pt x="288" y="1943"/>
                  <a:pt x="409" y="1905"/>
                </a:cubicBezTo>
                <a:cubicBezTo>
                  <a:pt x="530" y="1867"/>
                  <a:pt x="620" y="1935"/>
                  <a:pt x="726" y="1950"/>
                </a:cubicBezTo>
                <a:cubicBezTo>
                  <a:pt x="832" y="1965"/>
                  <a:pt x="863" y="2041"/>
                  <a:pt x="1044" y="1996"/>
                </a:cubicBezTo>
                <a:cubicBezTo>
                  <a:pt x="1225" y="1951"/>
                  <a:pt x="1558" y="1724"/>
                  <a:pt x="1815" y="1678"/>
                </a:cubicBezTo>
                <a:cubicBezTo>
                  <a:pt x="2072" y="1632"/>
                  <a:pt x="2291" y="1851"/>
                  <a:pt x="2586" y="1723"/>
                </a:cubicBezTo>
                <a:cubicBezTo>
                  <a:pt x="2881" y="1595"/>
                  <a:pt x="3313" y="1083"/>
                  <a:pt x="3584" y="907"/>
                </a:cubicBezTo>
                <a:cubicBezTo>
                  <a:pt x="3855" y="731"/>
                  <a:pt x="4014" y="771"/>
                  <a:pt x="4210" y="665"/>
                </a:cubicBezTo>
                <a:cubicBezTo>
                  <a:pt x="4406" y="559"/>
                  <a:pt x="4527" y="353"/>
                  <a:pt x="4763" y="272"/>
                </a:cubicBezTo>
                <a:cubicBezTo>
                  <a:pt x="4999" y="191"/>
                  <a:pt x="5444" y="226"/>
                  <a:pt x="5625" y="181"/>
                </a:cubicBezTo>
                <a:cubicBezTo>
                  <a:pt x="5806" y="136"/>
                  <a:pt x="5814" y="30"/>
                  <a:pt x="5852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114560" y="5851440"/>
            <a:ext cx="658800" cy="55800"/>
          </a:xfrm>
          <a:custGeom>
            <a:avLst/>
            <a:gdLst/>
            <a:ahLst/>
            <a:rect l="l" t="t" r="r" b="b"/>
            <a:pathLst>
              <a:path w="415" h="35">
                <a:moveTo>
                  <a:pt x="1" y="35"/>
                </a:moveTo>
                <a:cubicBezTo>
                  <a:pt x="10" y="31"/>
                  <a:pt x="0" y="16"/>
                  <a:pt x="69" y="10"/>
                </a:cubicBezTo>
                <a:cubicBezTo>
                  <a:pt x="138" y="4"/>
                  <a:pt x="357" y="2"/>
                  <a:pt x="415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225440" y="6456240"/>
            <a:ext cx="567000" cy="73080"/>
          </a:xfrm>
          <a:custGeom>
            <a:avLst/>
            <a:gdLst/>
            <a:ahLst/>
            <a:rect l="l" t="t" r="r" b="b"/>
            <a:pathLst>
              <a:path w="357" h="46">
                <a:moveTo>
                  <a:pt x="0" y="46"/>
                </a:moveTo>
                <a:cubicBezTo>
                  <a:pt x="59" y="38"/>
                  <a:pt x="298" y="8"/>
                  <a:pt x="357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189080" y="6162840"/>
            <a:ext cx="584280" cy="218880"/>
          </a:xfrm>
          <a:custGeom>
            <a:avLst/>
            <a:gdLst/>
            <a:ahLst/>
            <a:rect l="l" t="t" r="r" b="b"/>
            <a:pathLst>
              <a:path w="368" h="138">
                <a:moveTo>
                  <a:pt x="0" y="138"/>
                </a:moveTo>
                <a:cubicBezTo>
                  <a:pt x="61" y="115"/>
                  <a:pt x="291" y="29"/>
                  <a:pt x="36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816360" y="6948360"/>
            <a:ext cx="1944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 flipV="1">
            <a:off x="4392360" y="608436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44360" y="7074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773360" y="5194440"/>
            <a:ext cx="641160" cy="236520"/>
          </a:xfrm>
          <a:custGeom>
            <a:avLst/>
            <a:gdLst/>
            <a:ahLst/>
            <a:rect l="l" t="t" r="r" b="b"/>
            <a:pathLst>
              <a:path w="404" h="149">
                <a:moveTo>
                  <a:pt x="0" y="149"/>
                </a:moveTo>
                <a:cubicBezTo>
                  <a:pt x="67" y="124"/>
                  <a:pt x="320" y="31"/>
                  <a:pt x="404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773360" y="5435640"/>
            <a:ext cx="674640" cy="306360"/>
          </a:xfrm>
          <a:custGeom>
            <a:avLst/>
            <a:gdLst/>
            <a:ahLst/>
            <a:rect l="l" t="t" r="r" b="b"/>
            <a:pathLst>
              <a:path w="425" h="193">
                <a:moveTo>
                  <a:pt x="0" y="193"/>
                </a:moveTo>
                <a:cubicBezTo>
                  <a:pt x="69" y="161"/>
                  <a:pt x="354" y="32"/>
                  <a:pt x="425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792440" y="6308640"/>
            <a:ext cx="566640" cy="111240"/>
          </a:xfrm>
          <a:custGeom>
            <a:avLst/>
            <a:gdLst/>
            <a:ahLst/>
            <a:rect l="l" t="t" r="r" b="b"/>
            <a:pathLst>
              <a:path w="357" h="70">
                <a:moveTo>
                  <a:pt x="0" y="0"/>
                </a:moveTo>
                <a:cubicBezTo>
                  <a:pt x="59" y="12"/>
                  <a:pt x="283" y="55"/>
                  <a:pt x="357" y="7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31640" y="6804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189080" y="5599080"/>
            <a:ext cx="566640" cy="655560"/>
          </a:xfrm>
          <a:custGeom>
            <a:avLst/>
            <a:gdLst/>
            <a:ahLst/>
            <a:rect l="l" t="t" r="r" b="b"/>
            <a:pathLst>
              <a:path w="357" h="413">
                <a:moveTo>
                  <a:pt x="0" y="413"/>
                </a:moveTo>
                <a:cubicBezTo>
                  <a:pt x="44" y="354"/>
                  <a:pt x="205" y="112"/>
                  <a:pt x="265" y="56"/>
                </a:cubicBezTo>
                <a:cubicBezTo>
                  <a:pt x="325" y="0"/>
                  <a:pt x="342" y="75"/>
                  <a:pt x="357" y="79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225440" y="6345360"/>
            <a:ext cx="584280" cy="257040"/>
          </a:xfrm>
          <a:custGeom>
            <a:avLst/>
            <a:gdLst/>
            <a:ahLst/>
            <a:rect l="l" t="t" r="r" b="b"/>
            <a:pathLst>
              <a:path w="368" h="162">
                <a:moveTo>
                  <a:pt x="0" y="162"/>
                </a:moveTo>
                <a:cubicBezTo>
                  <a:pt x="61" y="135"/>
                  <a:pt x="291" y="34"/>
                  <a:pt x="36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809720" y="5505480"/>
            <a:ext cx="622440" cy="457200"/>
          </a:xfrm>
          <a:custGeom>
            <a:avLst/>
            <a:gdLst/>
            <a:ahLst/>
            <a:rect l="l" t="t" r="r" b="b"/>
            <a:pathLst>
              <a:path w="392" h="288">
                <a:moveTo>
                  <a:pt x="0" y="288"/>
                </a:moveTo>
                <a:cubicBezTo>
                  <a:pt x="65" y="240"/>
                  <a:pt x="327" y="48"/>
                  <a:pt x="392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44360" y="1979640"/>
            <a:ext cx="3888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naly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341440" y="5559480"/>
            <a:ext cx="639720" cy="457200"/>
          </a:xfrm>
          <a:custGeom>
            <a:avLst/>
            <a:gdLst/>
            <a:ahLst/>
            <a:rect l="l" t="t" r="r" b="b"/>
            <a:pathLst>
              <a:path w="403" h="288">
                <a:moveTo>
                  <a:pt x="0" y="288"/>
                </a:moveTo>
                <a:cubicBezTo>
                  <a:pt x="67" y="240"/>
                  <a:pt x="319" y="60"/>
                  <a:pt x="403" y="0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341440" y="6546960"/>
            <a:ext cx="538200" cy="112680"/>
          </a:xfrm>
          <a:custGeom>
            <a:avLst/>
            <a:gdLst/>
            <a:ahLst/>
            <a:rect l="l" t="t" r="r" b="b"/>
            <a:pathLst>
              <a:path w="339" h="71">
                <a:moveTo>
                  <a:pt x="0" y="0"/>
                </a:moveTo>
                <a:cubicBezTo>
                  <a:pt x="58" y="12"/>
                  <a:pt x="283" y="59"/>
                  <a:pt x="339" y="71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359080" y="6308640"/>
            <a:ext cx="566640" cy="73080"/>
          </a:xfrm>
          <a:custGeom>
            <a:avLst/>
            <a:gdLst/>
            <a:ahLst/>
            <a:rect l="l" t="t" r="r" b="b"/>
            <a:pathLst>
              <a:path w="357" h="46">
                <a:moveTo>
                  <a:pt x="0" y="35"/>
                </a:moveTo>
                <a:cubicBezTo>
                  <a:pt x="40" y="38"/>
                  <a:pt x="179" y="46"/>
                  <a:pt x="238" y="40"/>
                </a:cubicBezTo>
                <a:cubicBezTo>
                  <a:pt x="297" y="34"/>
                  <a:pt x="332" y="8"/>
                  <a:pt x="357" y="0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305080" y="5797440"/>
            <a:ext cx="639720" cy="255600"/>
          </a:xfrm>
          <a:custGeom>
            <a:avLst/>
            <a:gdLst/>
            <a:ahLst/>
            <a:rect l="l" t="t" r="r" b="b"/>
            <a:pathLst>
              <a:path w="403" h="161">
                <a:moveTo>
                  <a:pt x="0" y="161"/>
                </a:moveTo>
                <a:cubicBezTo>
                  <a:pt x="69" y="134"/>
                  <a:pt x="319" y="34"/>
                  <a:pt x="403" y="0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281320" y="6162840"/>
            <a:ext cx="644400" cy="91800"/>
          </a:xfrm>
          <a:custGeom>
            <a:avLst/>
            <a:gdLst/>
            <a:ahLst/>
            <a:rect l="l" t="t" r="r" b="b"/>
            <a:pathLst>
              <a:path w="406" h="58">
                <a:moveTo>
                  <a:pt x="38" y="0"/>
                </a:moveTo>
                <a:cubicBezTo>
                  <a:pt x="42" y="2"/>
                  <a:pt x="0" y="13"/>
                  <a:pt x="61" y="23"/>
                </a:cubicBezTo>
                <a:cubicBezTo>
                  <a:pt x="122" y="33"/>
                  <a:pt x="334" y="51"/>
                  <a:pt x="406" y="58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92000" y="7074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9290160" y="7020000"/>
            <a:ext cx="9349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553080" y="7020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755720" y="6145200"/>
            <a:ext cx="547920" cy="11160"/>
          </a:xfrm>
          <a:custGeom>
            <a:avLst/>
            <a:gdLst/>
            <a:ahLst/>
            <a:rect l="l" t="t" r="r" b="b"/>
            <a:pathLst>
              <a:path w="345" h="7">
                <a:moveTo>
                  <a:pt x="0" y="0"/>
                </a:moveTo>
                <a:cubicBezTo>
                  <a:pt x="57" y="1"/>
                  <a:pt x="273" y="6"/>
                  <a:pt x="345" y="7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278840" y="3127320"/>
            <a:ext cx="474480" cy="401760"/>
          </a:xfrm>
          <a:custGeom>
            <a:avLst/>
            <a:gdLst/>
            <a:ahLst/>
            <a:rect l="l" t="t" r="r" b="b"/>
            <a:pathLst>
              <a:path w="299" h="253">
                <a:moveTo>
                  <a:pt x="0" y="253"/>
                </a:moveTo>
                <a:cubicBezTo>
                  <a:pt x="50" y="209"/>
                  <a:pt x="237" y="53"/>
                  <a:pt x="299" y="0"/>
                </a:cubicBezTo>
              </a:path>
            </a:pathLst>
          </a:custGeom>
          <a:noFill/>
          <a:ln w="2844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345440" y="4140360"/>
            <a:ext cx="431640" cy="144360"/>
          </a:xfrm>
          <a:custGeom>
            <a:avLst/>
            <a:gdLst/>
            <a:ahLst/>
            <a:rect l="l" t="t" r="r" b="b"/>
            <a:pathLst>
              <a:path w="272" h="91">
                <a:moveTo>
                  <a:pt x="0" y="91"/>
                </a:moveTo>
                <a:cubicBezTo>
                  <a:pt x="45" y="76"/>
                  <a:pt x="227" y="15"/>
                  <a:pt x="272" y="0"/>
                </a:cubicBezTo>
              </a:path>
            </a:pathLst>
          </a:custGeom>
          <a:noFill/>
          <a:ln w="2844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334280" y="3895560"/>
            <a:ext cx="438120" cy="347760"/>
          </a:xfrm>
          <a:custGeom>
            <a:avLst/>
            <a:gdLst/>
            <a:ahLst/>
            <a:rect l="l" t="t" r="r" b="b"/>
            <a:pathLst>
              <a:path w="276" h="219">
                <a:moveTo>
                  <a:pt x="0" y="219"/>
                </a:moveTo>
                <a:cubicBezTo>
                  <a:pt x="46" y="183"/>
                  <a:pt x="218" y="46"/>
                  <a:pt x="276" y="0"/>
                </a:cubicBezTo>
              </a:path>
            </a:pathLst>
          </a:custGeom>
          <a:noFill/>
          <a:ln w="2844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296120" y="3438360"/>
            <a:ext cx="495360" cy="547920"/>
          </a:xfrm>
          <a:custGeom>
            <a:avLst/>
            <a:gdLst/>
            <a:ahLst/>
            <a:rect l="l" t="t" r="r" b="b"/>
            <a:pathLst>
              <a:path w="312" h="345">
                <a:moveTo>
                  <a:pt x="0" y="345"/>
                </a:moveTo>
                <a:cubicBezTo>
                  <a:pt x="30" y="308"/>
                  <a:pt x="114" y="181"/>
                  <a:pt x="166" y="124"/>
                </a:cubicBezTo>
                <a:cubicBezTo>
                  <a:pt x="218" y="67"/>
                  <a:pt x="282" y="26"/>
                  <a:pt x="312" y="0"/>
                </a:cubicBezTo>
              </a:path>
            </a:pathLst>
          </a:custGeom>
          <a:noFill/>
          <a:ln w="2844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351560" y="4389480"/>
            <a:ext cx="439920" cy="127080"/>
          </a:xfrm>
          <a:custGeom>
            <a:avLst/>
            <a:gdLst/>
            <a:ahLst/>
            <a:rect l="l" t="t" r="r" b="b"/>
            <a:pathLst>
              <a:path w="277" h="80">
                <a:moveTo>
                  <a:pt x="0" y="80"/>
                </a:moveTo>
                <a:cubicBezTo>
                  <a:pt x="44" y="67"/>
                  <a:pt x="219" y="17"/>
                  <a:pt x="277" y="0"/>
                </a:cubicBezTo>
              </a:path>
            </a:pathLst>
          </a:custGeom>
          <a:noFill/>
          <a:ln w="2844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664000" y="2050920"/>
            <a:ext cx="48243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ample : Focus on 3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orecast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" descr=""/>
          <p:cNvPicPr/>
          <p:nvPr/>
        </p:nvPicPr>
        <p:blipFill>
          <a:blip r:embed="rId1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2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03280" y="3132000"/>
            <a:ext cx="9290160" cy="3456000"/>
          </a:xfrm>
          <a:custGeom>
            <a:avLst/>
            <a:gdLst/>
            <a:ahLst/>
            <a:rect l="l" t="t" r="r" b="b"/>
            <a:pathLst>
              <a:path w="5852" h="2177">
                <a:moveTo>
                  <a:pt x="0" y="2177"/>
                </a:moveTo>
                <a:cubicBezTo>
                  <a:pt x="144" y="2060"/>
                  <a:pt x="288" y="1943"/>
                  <a:pt x="409" y="1905"/>
                </a:cubicBezTo>
                <a:cubicBezTo>
                  <a:pt x="530" y="1867"/>
                  <a:pt x="620" y="1935"/>
                  <a:pt x="726" y="1950"/>
                </a:cubicBezTo>
                <a:cubicBezTo>
                  <a:pt x="832" y="1965"/>
                  <a:pt x="863" y="2041"/>
                  <a:pt x="1044" y="1996"/>
                </a:cubicBezTo>
                <a:cubicBezTo>
                  <a:pt x="1225" y="1951"/>
                  <a:pt x="1558" y="1724"/>
                  <a:pt x="1815" y="1678"/>
                </a:cubicBezTo>
                <a:cubicBezTo>
                  <a:pt x="2072" y="1632"/>
                  <a:pt x="2291" y="1851"/>
                  <a:pt x="2586" y="1723"/>
                </a:cubicBezTo>
                <a:cubicBezTo>
                  <a:pt x="2881" y="1595"/>
                  <a:pt x="3313" y="1083"/>
                  <a:pt x="3584" y="907"/>
                </a:cubicBezTo>
                <a:cubicBezTo>
                  <a:pt x="3855" y="731"/>
                  <a:pt x="4014" y="771"/>
                  <a:pt x="4210" y="665"/>
                </a:cubicBezTo>
                <a:cubicBezTo>
                  <a:pt x="4406" y="559"/>
                  <a:pt x="4527" y="353"/>
                  <a:pt x="4763" y="272"/>
                </a:cubicBezTo>
                <a:cubicBezTo>
                  <a:pt x="4999" y="191"/>
                  <a:pt x="5444" y="226"/>
                  <a:pt x="5625" y="181"/>
                </a:cubicBezTo>
                <a:cubicBezTo>
                  <a:pt x="5806" y="136"/>
                  <a:pt x="5814" y="30"/>
                  <a:pt x="5852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816360" y="6948360"/>
            <a:ext cx="1944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4392360" y="608436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44360" y="7074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31640" y="6804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44360" y="1979640"/>
            <a:ext cx="3888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naly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92000" y="7074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9290160" y="7020000"/>
            <a:ext cx="9349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553080" y="7020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664000" y="2050920"/>
            <a:ext cx="48243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ample : Focus on 3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orecast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368360" y="5796000"/>
            <a:ext cx="142920" cy="1443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368360" y="5867280"/>
            <a:ext cx="142920" cy="1447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368360" y="6156360"/>
            <a:ext cx="142920" cy="1443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368360" y="6372360"/>
            <a:ext cx="142920" cy="1443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368360" y="6443640"/>
            <a:ext cx="142920" cy="1443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017800" y="5580000"/>
            <a:ext cx="142920" cy="144360"/>
          </a:xfrm>
          <a:prstGeom prst="flowChartConnector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017800" y="5722920"/>
            <a:ext cx="142920" cy="144360"/>
          </a:xfrm>
          <a:prstGeom prst="flowChartConnector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017800" y="5219640"/>
            <a:ext cx="142920" cy="144360"/>
          </a:xfrm>
          <a:prstGeom prst="flowChartConnector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017800" y="6084720"/>
            <a:ext cx="142920" cy="144720"/>
          </a:xfrm>
          <a:prstGeom prst="flowChartConnector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017800" y="6299280"/>
            <a:ext cx="142920" cy="144360"/>
          </a:xfrm>
          <a:prstGeom prst="flowChartConnector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521080" y="5796000"/>
            <a:ext cx="142920" cy="14436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521080" y="6156360"/>
            <a:ext cx="142920" cy="14436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521080" y="5867280"/>
            <a:ext cx="142920" cy="14472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521080" y="6300720"/>
            <a:ext cx="142920" cy="14436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521080" y="6515280"/>
            <a:ext cx="142920" cy="14436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488360" y="3564000"/>
            <a:ext cx="142920" cy="144360"/>
          </a:xfrm>
          <a:prstGeom prst="flowChartConnector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488360" y="3995640"/>
            <a:ext cx="142920" cy="144720"/>
          </a:xfrm>
          <a:prstGeom prst="flowChartConnector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489800" y="3203640"/>
            <a:ext cx="142920" cy="144360"/>
          </a:xfrm>
          <a:prstGeom prst="flowChartConnector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488360" y="4140360"/>
            <a:ext cx="142920" cy="144360"/>
          </a:xfrm>
          <a:prstGeom prst="flowChartConnector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488360" y="4354560"/>
            <a:ext cx="142920" cy="144360"/>
          </a:xfrm>
          <a:prstGeom prst="flowChartConnector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" descr=""/>
          <p:cNvPicPr/>
          <p:nvPr/>
        </p:nvPicPr>
        <p:blipFill>
          <a:blip r:embed="rId1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03280" y="3132000"/>
            <a:ext cx="9290160" cy="3456000"/>
          </a:xfrm>
          <a:custGeom>
            <a:avLst/>
            <a:gdLst/>
            <a:ahLst/>
            <a:rect l="l" t="t" r="r" b="b"/>
            <a:pathLst>
              <a:path w="5852" h="2177">
                <a:moveTo>
                  <a:pt x="0" y="2177"/>
                </a:moveTo>
                <a:cubicBezTo>
                  <a:pt x="144" y="2060"/>
                  <a:pt x="288" y="1943"/>
                  <a:pt x="409" y="1905"/>
                </a:cubicBezTo>
                <a:cubicBezTo>
                  <a:pt x="530" y="1867"/>
                  <a:pt x="620" y="1935"/>
                  <a:pt x="726" y="1950"/>
                </a:cubicBezTo>
                <a:cubicBezTo>
                  <a:pt x="832" y="1965"/>
                  <a:pt x="863" y="2041"/>
                  <a:pt x="1044" y="1996"/>
                </a:cubicBezTo>
                <a:cubicBezTo>
                  <a:pt x="1225" y="1951"/>
                  <a:pt x="1558" y="1724"/>
                  <a:pt x="1815" y="1678"/>
                </a:cubicBezTo>
                <a:cubicBezTo>
                  <a:pt x="2072" y="1632"/>
                  <a:pt x="2291" y="1851"/>
                  <a:pt x="2586" y="1723"/>
                </a:cubicBezTo>
                <a:cubicBezTo>
                  <a:pt x="2881" y="1595"/>
                  <a:pt x="3313" y="1083"/>
                  <a:pt x="3584" y="907"/>
                </a:cubicBezTo>
                <a:cubicBezTo>
                  <a:pt x="3855" y="731"/>
                  <a:pt x="4014" y="771"/>
                  <a:pt x="4210" y="665"/>
                </a:cubicBezTo>
                <a:cubicBezTo>
                  <a:pt x="4406" y="559"/>
                  <a:pt x="4527" y="353"/>
                  <a:pt x="4763" y="272"/>
                </a:cubicBezTo>
                <a:cubicBezTo>
                  <a:pt x="4999" y="191"/>
                  <a:pt x="5444" y="226"/>
                  <a:pt x="5625" y="181"/>
                </a:cubicBezTo>
                <a:cubicBezTo>
                  <a:pt x="5806" y="136"/>
                  <a:pt x="5814" y="30"/>
                  <a:pt x="5852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816360" y="6948360"/>
            <a:ext cx="1944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H="1" flipV="1">
            <a:off x="4392360" y="608436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44360" y="7074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31640" y="6804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44360" y="1979640"/>
            <a:ext cx="3888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naly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792000" y="7074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9290160" y="7020000"/>
            <a:ext cx="9349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553080" y="7020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664000" y="2050920"/>
            <a:ext cx="48243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ample : Focus on 3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orecast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368360" y="5796000"/>
            <a:ext cx="142920" cy="1443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68360" y="5867280"/>
            <a:ext cx="142920" cy="1447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368360" y="6156360"/>
            <a:ext cx="142920" cy="1443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368360" y="6372360"/>
            <a:ext cx="142920" cy="1443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368360" y="6443640"/>
            <a:ext cx="142920" cy="1443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017800" y="5580000"/>
            <a:ext cx="142920" cy="144360"/>
          </a:xfrm>
          <a:prstGeom prst="flowChartConnector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017800" y="5722920"/>
            <a:ext cx="142920" cy="144360"/>
          </a:xfrm>
          <a:prstGeom prst="flowChartConnector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017800" y="5219640"/>
            <a:ext cx="142920" cy="144360"/>
          </a:xfrm>
          <a:prstGeom prst="flowChartConnector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017800" y="6084720"/>
            <a:ext cx="142920" cy="144720"/>
          </a:xfrm>
          <a:prstGeom prst="flowChartConnector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017800" y="6299280"/>
            <a:ext cx="142920" cy="144360"/>
          </a:xfrm>
          <a:prstGeom prst="flowChartConnector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521080" y="5796000"/>
            <a:ext cx="142920" cy="14436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521080" y="6156360"/>
            <a:ext cx="142920" cy="14436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521080" y="5867280"/>
            <a:ext cx="142920" cy="14472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521080" y="6300720"/>
            <a:ext cx="142920" cy="14436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521080" y="6515280"/>
            <a:ext cx="142920" cy="14436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488360" y="3564000"/>
            <a:ext cx="142920" cy="144360"/>
          </a:xfrm>
          <a:prstGeom prst="flowChartConnector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488360" y="3995640"/>
            <a:ext cx="142920" cy="144720"/>
          </a:xfrm>
          <a:prstGeom prst="flowChartConnector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489800" y="3203640"/>
            <a:ext cx="142920" cy="144360"/>
          </a:xfrm>
          <a:prstGeom prst="flowChartConnector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488360" y="4140360"/>
            <a:ext cx="142920" cy="144360"/>
          </a:xfrm>
          <a:prstGeom prst="flowChartConnector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488360" y="4354560"/>
            <a:ext cx="142920" cy="144360"/>
          </a:xfrm>
          <a:prstGeom prst="flowChartConnector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952720" y="5364000"/>
            <a:ext cx="142920" cy="144720"/>
          </a:xfrm>
          <a:prstGeom prst="flowChartConnector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952720" y="5724360"/>
            <a:ext cx="142920" cy="144720"/>
          </a:xfrm>
          <a:prstGeom prst="flowChartConnector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952720" y="4932360"/>
            <a:ext cx="142920" cy="144360"/>
          </a:xfrm>
          <a:prstGeom prst="flowChartConnector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952720" y="5940360"/>
            <a:ext cx="142920" cy="144360"/>
          </a:xfrm>
          <a:prstGeom prst="flowChartConnector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952720" y="6156360"/>
            <a:ext cx="142920" cy="144360"/>
          </a:xfrm>
          <a:prstGeom prst="flowChartConnector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456000" y="5724360"/>
            <a:ext cx="142920" cy="144720"/>
          </a:xfrm>
          <a:prstGeom prst="flowChartConnector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56000" y="6084720"/>
            <a:ext cx="142920" cy="144720"/>
          </a:xfrm>
          <a:prstGeom prst="flowChartConnector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456000" y="6012000"/>
            <a:ext cx="142920" cy="144360"/>
          </a:xfrm>
          <a:prstGeom prst="flowChartConnector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456000" y="6229440"/>
            <a:ext cx="142920" cy="144360"/>
          </a:xfrm>
          <a:prstGeom prst="flowChartConnector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456000" y="5940360"/>
            <a:ext cx="142920" cy="144360"/>
          </a:xfrm>
          <a:prstGeom prst="flowChartConnector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960720" y="5364000"/>
            <a:ext cx="142920" cy="144720"/>
          </a:xfrm>
          <a:prstGeom prst="flowChartConnector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960720" y="5724360"/>
            <a:ext cx="142920" cy="144720"/>
          </a:xfrm>
          <a:prstGeom prst="flowChartConnector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960720" y="6804000"/>
            <a:ext cx="142920" cy="144360"/>
          </a:xfrm>
          <a:prstGeom prst="flowChartConnector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960720" y="6012000"/>
            <a:ext cx="142920" cy="144360"/>
          </a:xfrm>
          <a:prstGeom prst="flowChartConnector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960720" y="6083280"/>
            <a:ext cx="142920" cy="144360"/>
          </a:xfrm>
          <a:prstGeom prst="flowChartConnector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9290160" y="2987640"/>
            <a:ext cx="14292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9290160" y="3348000"/>
            <a:ext cx="14292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9290160" y="3274920"/>
            <a:ext cx="142920" cy="14472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9290160" y="3492360"/>
            <a:ext cx="142920" cy="14472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9290160" y="3851280"/>
            <a:ext cx="14292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8858160" y="3059280"/>
            <a:ext cx="142920" cy="144360"/>
          </a:xfrm>
          <a:prstGeom prst="flowChartConnector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8858160" y="3419640"/>
            <a:ext cx="142920" cy="144360"/>
          </a:xfrm>
          <a:prstGeom prst="flowChartConnector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8858160" y="2195640"/>
            <a:ext cx="142920" cy="144360"/>
          </a:xfrm>
          <a:prstGeom prst="flowChartConnector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8858160" y="3203640"/>
            <a:ext cx="142920" cy="144360"/>
          </a:xfrm>
          <a:prstGeom prst="flowChartConnector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8858160" y="3778200"/>
            <a:ext cx="142920" cy="144360"/>
          </a:xfrm>
          <a:prstGeom prst="flowChartConnector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8426520" y="2916360"/>
            <a:ext cx="142920" cy="14436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8426520" y="3276720"/>
            <a:ext cx="142920" cy="14436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8426520" y="3130560"/>
            <a:ext cx="142920" cy="14436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8424720" y="3780000"/>
            <a:ext cx="142920" cy="14436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8426520" y="3635280"/>
            <a:ext cx="142920" cy="14472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7920000" y="3421080"/>
            <a:ext cx="142920" cy="1443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7920000" y="3781440"/>
            <a:ext cx="142920" cy="1443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920000" y="3492360"/>
            <a:ext cx="142920" cy="1447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7920000" y="3635280"/>
            <a:ext cx="142920" cy="1447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920000" y="3924360"/>
            <a:ext cx="142920" cy="1443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519280" y="3132000"/>
            <a:ext cx="345600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1 forecasts : anomalies relative to 1971-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" descr=""/>
          <p:cNvPicPr/>
          <p:nvPr/>
        </p:nvPicPr>
        <p:blipFill>
          <a:blip r:embed="rId1"/>
          <a:srcRect l="0" t="5559" r="4773" b="9883"/>
          <a:stretch/>
        </p:blipFill>
        <p:spPr>
          <a:xfrm>
            <a:off x="2087640" y="3033720"/>
            <a:ext cx="5545080" cy="368136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/>
          <p:nvPr/>
        </p:nvSpPr>
        <p:spPr>
          <a:xfrm>
            <a:off x="0" y="2195640"/>
            <a:ext cx="10080720" cy="85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obal mean Sea Surface Temperature (6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-6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863640" y="6764400"/>
            <a:ext cx="907236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The climate predictions capture the warming slowdow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89080" y="6624720"/>
            <a:ext cx="502920" cy="75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2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pic>
        <p:nvPicPr>
          <p:cNvPr id="669" name="" descr=""/>
          <p:cNvPicPr/>
          <p:nvPr/>
        </p:nvPicPr>
        <p:blipFill>
          <a:blip r:embed="rId3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sp>
        <p:nvSpPr>
          <p:cNvPr id="670" name=""/>
          <p:cNvSpPr/>
          <p:nvPr/>
        </p:nvSpPr>
        <p:spPr>
          <a:xfrm>
            <a:off x="0" y="1090440"/>
            <a:ext cx="10080720" cy="11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ccessful climate prediction of the                  2000-2010 global temperature plat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119640" y="3203640"/>
            <a:ext cx="1440000" cy="1297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095640" y="3274920"/>
            <a:ext cx="19447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ecast years 1 to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759280" y="5724360"/>
            <a:ext cx="18734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RS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4176720" y="594036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" descr=""/>
          <p:cNvPicPr/>
          <p:nvPr/>
        </p:nvPicPr>
        <p:blipFill>
          <a:blip r:embed="rId1"/>
          <a:srcRect l="7637" t="5559" r="4773" b="9883"/>
          <a:stretch/>
        </p:blipFill>
        <p:spPr>
          <a:xfrm>
            <a:off x="5280120" y="3033720"/>
            <a:ext cx="4728960" cy="340992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2"/>
          <a:srcRect l="0" t="5559" r="4773" b="9883"/>
          <a:stretch/>
        </p:blipFill>
        <p:spPr>
          <a:xfrm>
            <a:off x="71280" y="3033720"/>
            <a:ext cx="5137200" cy="3409920"/>
          </a:xfrm>
          <a:prstGeom prst="rect">
            <a:avLst/>
          </a:prstGeom>
          <a:ln w="0">
            <a:noFill/>
          </a:ln>
        </p:spPr>
      </p:pic>
      <p:sp>
        <p:nvSpPr>
          <p:cNvPr id="677" name=""/>
          <p:cNvSpPr/>
          <p:nvPr/>
        </p:nvSpPr>
        <p:spPr>
          <a:xfrm>
            <a:off x="0" y="2195640"/>
            <a:ext cx="10080720" cy="85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obal mean Sea Surface Temperature (6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-6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518080" y="3271680"/>
            <a:ext cx="302436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EC-Earth historical simulations starting from 1850 preindustrial control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8542440" y="3201840"/>
            <a:ext cx="1439640" cy="1297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863640" y="6764400"/>
            <a:ext cx="90723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Initializing from observations is crucial to capture the platea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89080" y="6624720"/>
            <a:ext cx="502920" cy="75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3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4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>
            <a:off x="0" y="1090440"/>
            <a:ext cx="10080720" cy="11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ccessful climate prediction of the                  2000-2010 global temperature plat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224000" y="3379680"/>
            <a:ext cx="2016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I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8569440" y="5468760"/>
            <a:ext cx="1224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NoI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863640" y="6764400"/>
            <a:ext cx="907236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Initializing allows to the SST evolution along the predi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" descr=""/>
          <p:cNvPicPr/>
          <p:nvPr/>
        </p:nvPicPr>
        <p:blipFill>
          <a:blip r:embed="rId1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pic>
        <p:nvPicPr>
          <p:cNvPr id="689" name="" descr=""/>
          <p:cNvPicPr/>
          <p:nvPr/>
        </p:nvPicPr>
        <p:blipFill>
          <a:blip r:embed="rId2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sp>
        <p:nvSpPr>
          <p:cNvPr id="690" name=""/>
          <p:cNvSpPr/>
          <p:nvPr/>
        </p:nvSpPr>
        <p:spPr>
          <a:xfrm>
            <a:off x="0" y="1090440"/>
            <a:ext cx="10080720" cy="11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ccessful climate prediction of the                  2000-2010 global temperature plat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3"/>
          <a:stretch/>
        </p:blipFill>
        <p:spPr>
          <a:xfrm>
            <a:off x="2232000" y="2714760"/>
            <a:ext cx="5572080" cy="4305240"/>
          </a:xfrm>
          <a:prstGeom prst="rect">
            <a:avLst/>
          </a:prstGeom>
          <a:ln w="0">
            <a:noFill/>
          </a:ln>
        </p:spPr>
      </p:pic>
      <p:sp>
        <p:nvSpPr>
          <p:cNvPr id="692" name=""/>
          <p:cNvSpPr/>
          <p:nvPr/>
        </p:nvSpPr>
        <p:spPr>
          <a:xfrm>
            <a:off x="0" y="2195640"/>
            <a:ext cx="10080720" cy="85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obal mean Sea Surface Temperature (6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-6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89080" y="6624720"/>
            <a:ext cx="502920" cy="75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038560" y="5148360"/>
            <a:ext cx="86544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I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896000" y="5540400"/>
            <a:ext cx="122364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NoI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42920" y="3924360"/>
            <a:ext cx="1944720" cy="16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moothing with 1-year running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8209080" y="4500720"/>
            <a:ext cx="1224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RS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863640" y="6764400"/>
            <a:ext cx="907236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Initializing allows to the SST evolution along the predi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1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2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/>
          <p:nvPr/>
        </p:nvSpPr>
        <p:spPr>
          <a:xfrm>
            <a:off x="0" y="1090440"/>
            <a:ext cx="10080720" cy="11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ccessful climate prediction of the                  2000-2010 global temperature plat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3"/>
          <a:stretch/>
        </p:blipFill>
        <p:spPr>
          <a:xfrm>
            <a:off x="2232000" y="2714760"/>
            <a:ext cx="5572080" cy="4305240"/>
          </a:xfrm>
          <a:prstGeom prst="rect">
            <a:avLst/>
          </a:prstGeom>
          <a:ln w="0">
            <a:noFill/>
          </a:ln>
        </p:spPr>
      </p:pic>
      <p:sp>
        <p:nvSpPr>
          <p:cNvPr id="703" name=""/>
          <p:cNvSpPr/>
          <p:nvPr/>
        </p:nvSpPr>
        <p:spPr>
          <a:xfrm>
            <a:off x="0" y="2195640"/>
            <a:ext cx="10080720" cy="85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obal mean Sea Surface Temperature (6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-6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89080" y="6624720"/>
            <a:ext cx="502920" cy="75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038560" y="5148360"/>
            <a:ext cx="86544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I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896000" y="5540400"/>
            <a:ext cx="122364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NoI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42920" y="3924360"/>
            <a:ext cx="1944720" cy="16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moothing with 1-year running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871800" y="3830760"/>
            <a:ext cx="1673280" cy="1403280"/>
          </a:xfrm>
          <a:custGeom>
            <a:avLst/>
            <a:gdLst/>
            <a:ahLst/>
            <a:rect l="l" t="t" r="r" b="b"/>
            <a:pathLst>
              <a:path w="1054" h="884">
                <a:moveTo>
                  <a:pt x="0" y="884"/>
                </a:moveTo>
                <a:cubicBezTo>
                  <a:pt x="49" y="774"/>
                  <a:pt x="206" y="349"/>
                  <a:pt x="294" y="210"/>
                </a:cubicBezTo>
                <a:cubicBezTo>
                  <a:pt x="382" y="71"/>
                  <a:pt x="462" y="77"/>
                  <a:pt x="527" y="50"/>
                </a:cubicBezTo>
                <a:cubicBezTo>
                  <a:pt x="592" y="23"/>
                  <a:pt x="643" y="58"/>
                  <a:pt x="686" y="50"/>
                </a:cubicBezTo>
                <a:cubicBezTo>
                  <a:pt x="729" y="42"/>
                  <a:pt x="738" y="0"/>
                  <a:pt x="784" y="1"/>
                </a:cubicBezTo>
                <a:cubicBezTo>
                  <a:pt x="830" y="2"/>
                  <a:pt x="918" y="42"/>
                  <a:pt x="963" y="59"/>
                </a:cubicBezTo>
                <a:cubicBezTo>
                  <a:pt x="1008" y="76"/>
                  <a:pt x="1031" y="96"/>
                  <a:pt x="1054" y="104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8209080" y="4500720"/>
            <a:ext cx="1224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RS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1352520" y="1882800"/>
            <a:ext cx="7072200" cy="47577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5545080" y="7002360"/>
            <a:ext cx="43196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Ed Hawkins, Climate Lab Book, N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232000" y="3492360"/>
            <a:ext cx="6050160" cy="2898720"/>
            <a:chOff x="2232000" y="3492360"/>
            <a:chExt cx="6050160" cy="2898720"/>
          </a:xfrm>
        </p:grpSpPr>
        <p:sp>
          <p:nvSpPr>
            <p:cNvPr id="200" name=""/>
            <p:cNvSpPr/>
            <p:nvPr/>
          </p:nvSpPr>
          <p:spPr>
            <a:xfrm>
              <a:off x="5040360" y="3492360"/>
              <a:ext cx="360360" cy="3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4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800" spc="-1" strike="noStrike">
                  <a:solidFill>
                    <a:srgbClr val="a50021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221440" y="38512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5480" y="4049640"/>
              <a:ext cx="360360" cy="3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4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800" spc="-1" strike="noStrike">
                  <a:solidFill>
                    <a:srgbClr val="a50021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48000" y="442764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384720" y="4284720"/>
              <a:ext cx="360360" cy="3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4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800" spc="-1" strike="noStrike">
                  <a:solidFill>
                    <a:srgbClr val="a50021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62200" y="46814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69080" y="4716360"/>
              <a:ext cx="151308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4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800" spc="-1" strike="noStrike">
                  <a:solidFill>
                    <a:srgbClr val="a50021"/>
                  </a:solidFill>
                  <a:latin typeface="Arial"/>
                </a:rPr>
                <a:t>N = Niñ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4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Arial"/>
                </a:rPr>
                <a:t>N = Niñ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4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Arial"/>
                </a:rPr>
                <a:t>V = Volca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680000" y="5562720"/>
              <a:ext cx="360360" cy="3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4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4824360" y="536400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808360" y="5923080"/>
              <a:ext cx="360360" cy="3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4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2968560" y="579600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75280" y="5724360"/>
              <a:ext cx="360360" cy="3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4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4354560" y="55083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27280" y="5867280"/>
              <a:ext cx="360360" cy="3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4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3706920" y="5724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232000" y="6012000"/>
              <a:ext cx="360360" cy="3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4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2409840" y="58672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5327640" y="3564000"/>
            <a:ext cx="1008000" cy="1511280"/>
          </a:xfrm>
          <a:prstGeom prst="rect">
            <a:avLst/>
          </a:prstGeom>
          <a:noFill/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2160720" y="6443640"/>
            <a:ext cx="142920" cy="1443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160720" y="6659640"/>
            <a:ext cx="142920" cy="1443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1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2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03280" y="3132000"/>
            <a:ext cx="9290160" cy="3456000"/>
          </a:xfrm>
          <a:custGeom>
            <a:avLst/>
            <a:gdLst/>
            <a:ahLst/>
            <a:rect l="l" t="t" r="r" b="b"/>
            <a:pathLst>
              <a:path w="5852" h="2177">
                <a:moveTo>
                  <a:pt x="0" y="2177"/>
                </a:moveTo>
                <a:cubicBezTo>
                  <a:pt x="144" y="2060"/>
                  <a:pt x="288" y="1943"/>
                  <a:pt x="409" y="1905"/>
                </a:cubicBezTo>
                <a:cubicBezTo>
                  <a:pt x="530" y="1867"/>
                  <a:pt x="620" y="1935"/>
                  <a:pt x="726" y="1950"/>
                </a:cubicBezTo>
                <a:cubicBezTo>
                  <a:pt x="832" y="1965"/>
                  <a:pt x="863" y="2041"/>
                  <a:pt x="1044" y="1996"/>
                </a:cubicBezTo>
                <a:cubicBezTo>
                  <a:pt x="1225" y="1951"/>
                  <a:pt x="1558" y="1724"/>
                  <a:pt x="1815" y="1678"/>
                </a:cubicBezTo>
                <a:cubicBezTo>
                  <a:pt x="2072" y="1632"/>
                  <a:pt x="2291" y="1851"/>
                  <a:pt x="2586" y="1723"/>
                </a:cubicBezTo>
                <a:cubicBezTo>
                  <a:pt x="2881" y="1595"/>
                  <a:pt x="3313" y="1083"/>
                  <a:pt x="3584" y="907"/>
                </a:cubicBezTo>
                <a:cubicBezTo>
                  <a:pt x="3855" y="731"/>
                  <a:pt x="4014" y="771"/>
                  <a:pt x="4210" y="665"/>
                </a:cubicBezTo>
                <a:cubicBezTo>
                  <a:pt x="4406" y="559"/>
                  <a:pt x="4527" y="353"/>
                  <a:pt x="4763" y="272"/>
                </a:cubicBezTo>
                <a:cubicBezTo>
                  <a:pt x="4999" y="191"/>
                  <a:pt x="5444" y="226"/>
                  <a:pt x="5625" y="181"/>
                </a:cubicBezTo>
                <a:cubicBezTo>
                  <a:pt x="5806" y="136"/>
                  <a:pt x="5814" y="30"/>
                  <a:pt x="5852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816360" y="6948360"/>
            <a:ext cx="1944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H="1" flipV="1">
            <a:off x="4392360" y="608436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44360" y="1979640"/>
            <a:ext cx="3888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naly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9290160" y="7020000"/>
            <a:ext cx="9349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553080" y="7020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009800" y="5796000"/>
            <a:ext cx="142560" cy="1443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009800" y="5867280"/>
            <a:ext cx="142560" cy="1447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009800" y="6156360"/>
            <a:ext cx="142560" cy="1443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009800" y="6372360"/>
            <a:ext cx="142560" cy="1443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009800" y="6443640"/>
            <a:ext cx="142560" cy="1443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160720" y="6083280"/>
            <a:ext cx="142920" cy="1443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160720" y="5435640"/>
            <a:ext cx="142920" cy="1443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160720" y="5651640"/>
            <a:ext cx="142920" cy="1443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47640" y="4932360"/>
            <a:ext cx="86364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Years 1 to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873080" y="4556160"/>
            <a:ext cx="86364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Years 3 to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936720" y="4138560"/>
            <a:ext cx="1655640" cy="433440"/>
          </a:xfrm>
          <a:custGeom>
            <a:avLst/>
            <a:gdLst>
              <a:gd name="textAreaLeft" fmla="*/ 289800 w 1655640"/>
              <a:gd name="textAreaRight" fmla="*/ 1200600 w 1655640"/>
              <a:gd name="textAreaTop" fmla="*/ 57960 h 433440"/>
              <a:gd name="textAreaBottom" fmla="*/ 3754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60360" y="2627280"/>
            <a:ext cx="187164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5-member prediction started 1 Nov 1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664000" y="2050920"/>
            <a:ext cx="53290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-year mean changes along the fore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" descr=""/>
          <p:cNvPicPr/>
          <p:nvPr/>
        </p:nvPicPr>
        <p:blipFill>
          <a:blip r:embed="rId1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pic>
        <p:nvPicPr>
          <p:cNvPr id="735" name="" descr=""/>
          <p:cNvPicPr/>
          <p:nvPr/>
        </p:nvPicPr>
        <p:blipFill>
          <a:blip r:embed="rId2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sp>
        <p:nvSpPr>
          <p:cNvPr id="736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03280" y="3132000"/>
            <a:ext cx="9290160" cy="3456000"/>
          </a:xfrm>
          <a:custGeom>
            <a:avLst/>
            <a:gdLst/>
            <a:ahLst/>
            <a:rect l="l" t="t" r="r" b="b"/>
            <a:pathLst>
              <a:path w="5852" h="2177">
                <a:moveTo>
                  <a:pt x="0" y="2177"/>
                </a:moveTo>
                <a:cubicBezTo>
                  <a:pt x="144" y="2060"/>
                  <a:pt x="288" y="1943"/>
                  <a:pt x="409" y="1905"/>
                </a:cubicBezTo>
                <a:cubicBezTo>
                  <a:pt x="530" y="1867"/>
                  <a:pt x="620" y="1935"/>
                  <a:pt x="726" y="1950"/>
                </a:cubicBezTo>
                <a:cubicBezTo>
                  <a:pt x="832" y="1965"/>
                  <a:pt x="863" y="2041"/>
                  <a:pt x="1044" y="1996"/>
                </a:cubicBezTo>
                <a:cubicBezTo>
                  <a:pt x="1225" y="1951"/>
                  <a:pt x="1558" y="1724"/>
                  <a:pt x="1815" y="1678"/>
                </a:cubicBezTo>
                <a:cubicBezTo>
                  <a:pt x="2072" y="1632"/>
                  <a:pt x="2291" y="1851"/>
                  <a:pt x="2586" y="1723"/>
                </a:cubicBezTo>
                <a:cubicBezTo>
                  <a:pt x="2881" y="1595"/>
                  <a:pt x="3313" y="1083"/>
                  <a:pt x="3584" y="907"/>
                </a:cubicBezTo>
                <a:cubicBezTo>
                  <a:pt x="3855" y="731"/>
                  <a:pt x="4014" y="771"/>
                  <a:pt x="4210" y="665"/>
                </a:cubicBezTo>
                <a:cubicBezTo>
                  <a:pt x="4406" y="559"/>
                  <a:pt x="4527" y="353"/>
                  <a:pt x="4763" y="272"/>
                </a:cubicBezTo>
                <a:cubicBezTo>
                  <a:pt x="4999" y="191"/>
                  <a:pt x="5444" y="226"/>
                  <a:pt x="5625" y="181"/>
                </a:cubicBezTo>
                <a:cubicBezTo>
                  <a:pt x="5806" y="136"/>
                  <a:pt x="5814" y="30"/>
                  <a:pt x="5852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816360" y="6948360"/>
            <a:ext cx="1944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H="1" flipV="1">
            <a:off x="4392360" y="608436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44360" y="1979640"/>
            <a:ext cx="3888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naly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9290160" y="7020000"/>
            <a:ext cx="9349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553080" y="7020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009800" y="5796000"/>
            <a:ext cx="142560" cy="1443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009800" y="5867280"/>
            <a:ext cx="142560" cy="1447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009800" y="6156360"/>
            <a:ext cx="142560" cy="1443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009800" y="6372360"/>
            <a:ext cx="142560" cy="1443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009800" y="6443640"/>
            <a:ext cx="142560" cy="1443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584360" y="5940360"/>
            <a:ext cx="142920" cy="144360"/>
          </a:xfrm>
          <a:prstGeom prst="flowChartConnector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584360" y="6083280"/>
            <a:ext cx="142920" cy="144360"/>
          </a:xfrm>
          <a:prstGeom prst="flowChartConnector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584360" y="5580000"/>
            <a:ext cx="142920" cy="144360"/>
          </a:xfrm>
          <a:prstGeom prst="flowChartConnector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584360" y="6445080"/>
            <a:ext cx="142920" cy="144720"/>
          </a:xfrm>
          <a:prstGeom prst="flowChartConnector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584360" y="6659640"/>
            <a:ext cx="142920" cy="144360"/>
          </a:xfrm>
          <a:prstGeom prst="flowChartConnector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160720" y="5867280"/>
            <a:ext cx="142920" cy="14472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160720" y="5219640"/>
            <a:ext cx="142920" cy="14436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160720" y="5938920"/>
            <a:ext cx="142920" cy="14436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160720" y="6372360"/>
            <a:ext cx="142920" cy="14436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160720" y="6586560"/>
            <a:ext cx="142920" cy="14436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7848720" y="3348000"/>
            <a:ext cx="142920" cy="144360"/>
          </a:xfrm>
          <a:prstGeom prst="flowChartConnector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7848720" y="3780000"/>
            <a:ext cx="142920" cy="144360"/>
          </a:xfrm>
          <a:prstGeom prst="flowChartConnector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850160" y="2987640"/>
            <a:ext cx="142920" cy="144360"/>
          </a:xfrm>
          <a:prstGeom prst="flowChartConnector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7848720" y="3924360"/>
            <a:ext cx="142920" cy="144360"/>
          </a:xfrm>
          <a:prstGeom prst="flowChartConnector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7848720" y="4138560"/>
            <a:ext cx="142920" cy="144360"/>
          </a:xfrm>
          <a:prstGeom prst="flowChartConnector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160720" y="6083280"/>
            <a:ext cx="142920" cy="1443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160720" y="5435640"/>
            <a:ext cx="142920" cy="1443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160720" y="5651640"/>
            <a:ext cx="142920" cy="1443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160720" y="6443640"/>
            <a:ext cx="142920" cy="1443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160720" y="6659640"/>
            <a:ext cx="142920" cy="1443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936720" y="4138560"/>
            <a:ext cx="1655640" cy="433440"/>
          </a:xfrm>
          <a:custGeom>
            <a:avLst/>
            <a:gdLst>
              <a:gd name="textAreaLeft" fmla="*/ 289800 w 1655640"/>
              <a:gd name="textAreaRight" fmla="*/ 1200600 w 1655640"/>
              <a:gd name="textAreaTop" fmla="*/ 57960 h 433440"/>
              <a:gd name="textAreaBottom" fmla="*/ 3754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736720" y="5580000"/>
            <a:ext cx="142920" cy="144360"/>
          </a:xfrm>
          <a:prstGeom prst="flowChartConnector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736720" y="5867280"/>
            <a:ext cx="142920" cy="144720"/>
          </a:xfrm>
          <a:prstGeom prst="flowChartConnector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736720" y="5075280"/>
            <a:ext cx="142920" cy="144360"/>
          </a:xfrm>
          <a:prstGeom prst="flowChartConnector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736720" y="6443640"/>
            <a:ext cx="142920" cy="144360"/>
          </a:xfrm>
          <a:prstGeom prst="flowChartConnector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736720" y="6299280"/>
            <a:ext cx="142920" cy="144360"/>
          </a:xfrm>
          <a:prstGeom prst="flowChartConnector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584360" y="7018200"/>
            <a:ext cx="1511280" cy="433440"/>
          </a:xfrm>
          <a:custGeom>
            <a:avLst/>
            <a:gdLst>
              <a:gd name="textAreaLeft" fmla="*/ 264240 w 1511280"/>
              <a:gd name="textAreaRight" fmla="*/ 1095840 w 1511280"/>
              <a:gd name="textAreaTop" fmla="*/ 57960 h 433440"/>
              <a:gd name="textAreaBottom" fmla="*/ 3754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384720" y="5435640"/>
            <a:ext cx="142560" cy="14436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3384720" y="5796000"/>
            <a:ext cx="142560" cy="14436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384720" y="5506920"/>
            <a:ext cx="142560" cy="14472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384720" y="5940360"/>
            <a:ext cx="142560" cy="14436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384720" y="6154560"/>
            <a:ext cx="142560" cy="14472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232000" y="3490920"/>
            <a:ext cx="1655640" cy="433440"/>
          </a:xfrm>
          <a:custGeom>
            <a:avLst/>
            <a:gdLst>
              <a:gd name="textAreaLeft" fmla="*/ 289800 w 1655640"/>
              <a:gd name="textAreaRight" fmla="*/ 1200600 w 1655640"/>
              <a:gd name="textAreaTop" fmla="*/ 57960 h 433440"/>
              <a:gd name="textAreaBottom" fmla="*/ 3754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769080" y="3922560"/>
            <a:ext cx="142920" cy="144720"/>
          </a:xfrm>
          <a:prstGeom prst="flowChartConnector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769080" y="4211640"/>
            <a:ext cx="142920" cy="144360"/>
          </a:xfrm>
          <a:prstGeom prst="flowChartConnector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70520" y="4067280"/>
            <a:ext cx="142920" cy="144360"/>
          </a:xfrm>
          <a:prstGeom prst="flowChartConnector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6769080" y="4356000"/>
            <a:ext cx="142920" cy="144720"/>
          </a:xfrm>
          <a:prstGeom prst="flowChartConnector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769080" y="4570560"/>
            <a:ext cx="142920" cy="144360"/>
          </a:xfrm>
          <a:prstGeom prst="flowChartConnector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6624720" y="5075280"/>
            <a:ext cx="1655640" cy="433440"/>
          </a:xfrm>
          <a:custGeom>
            <a:avLst/>
            <a:gdLst>
              <a:gd name="textAreaLeft" fmla="*/ 289800 w 1655640"/>
              <a:gd name="textAreaRight" fmla="*/ 1200600 w 1655640"/>
              <a:gd name="textAreaTop" fmla="*/ 57960 h 433440"/>
              <a:gd name="textAreaBottom" fmla="*/ 3754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664000" y="2050920"/>
            <a:ext cx="53290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-year mean changes along the fore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1295280" y="6804000"/>
            <a:ext cx="842508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Initialization improves the SST trend along the fore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" descr=""/>
          <p:cNvPicPr/>
          <p:nvPr/>
        </p:nvPicPr>
        <p:blipFill>
          <a:blip r:embed="rId1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pic>
        <p:nvPicPr>
          <p:cNvPr id="790" name="" descr=""/>
          <p:cNvPicPr/>
          <p:nvPr/>
        </p:nvPicPr>
        <p:blipFill>
          <a:blip r:embed="rId2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sp>
        <p:nvSpPr>
          <p:cNvPr id="791" name=""/>
          <p:cNvSpPr/>
          <p:nvPr/>
        </p:nvSpPr>
        <p:spPr>
          <a:xfrm>
            <a:off x="0" y="1090440"/>
            <a:ext cx="10080720" cy="11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ccessful climate prediction of the                  2000-2010 global temperature plat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3"/>
          <a:stretch/>
        </p:blipFill>
        <p:spPr>
          <a:xfrm>
            <a:off x="2178000" y="2751120"/>
            <a:ext cx="5526000" cy="426888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0" y="2195640"/>
            <a:ext cx="10080720" cy="85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-year mean change in global SST (6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-6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89080" y="6624720"/>
            <a:ext cx="502920" cy="75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8207280" y="3524400"/>
            <a:ext cx="86544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I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8209080" y="5540400"/>
            <a:ext cx="1224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NoI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8209080" y="4500720"/>
            <a:ext cx="1224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RS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0" y="1090440"/>
            <a:ext cx="10080720" cy="11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at budget on those climate predictions to attribute the 2000-2010 global temperature plat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" descr=""/>
          <p:cNvPicPr/>
          <p:nvPr/>
        </p:nvPicPr>
        <p:blipFill>
          <a:blip r:embed="rId1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pic>
        <p:nvPicPr>
          <p:cNvPr id="800" name="" descr=""/>
          <p:cNvPicPr/>
          <p:nvPr/>
        </p:nvPicPr>
        <p:blipFill>
          <a:blip r:embed="rId2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pic>
        <p:nvPicPr>
          <p:cNvPr id="801" name="" descr=""/>
          <p:cNvPicPr/>
          <p:nvPr/>
        </p:nvPicPr>
        <p:blipFill>
          <a:blip r:embed="rId3"/>
          <a:stretch/>
        </p:blipFill>
        <p:spPr>
          <a:xfrm>
            <a:off x="2160720" y="2743200"/>
            <a:ext cx="5543280" cy="4282920"/>
          </a:xfrm>
          <a:prstGeom prst="rect">
            <a:avLst/>
          </a:prstGeom>
          <a:ln w="0">
            <a:noFill/>
          </a:ln>
        </p:spPr>
      </p:pic>
      <p:sp>
        <p:nvSpPr>
          <p:cNvPr id="802" name=""/>
          <p:cNvSpPr/>
          <p:nvPr/>
        </p:nvSpPr>
        <p:spPr>
          <a:xfrm>
            <a:off x="0" y="2195640"/>
            <a:ext cx="10080720" cy="90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obal Top-of Atmosphere Excess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295280" y="6804000"/>
            <a:ext cx="842508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TOA input energy around 0.4 x 10</a:t>
            </a:r>
            <a:r>
              <a:rPr b="1" lang="en-GB" sz="2400" spc="-1" strike="noStrike" baseline="30000">
                <a:solidFill>
                  <a:srgbClr val="cc0000"/>
                </a:solidFill>
                <a:latin typeface="Arial"/>
              </a:rPr>
              <a:t>23 </a:t>
            </a: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Joules capt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89080" y="6624720"/>
            <a:ext cx="502920" cy="75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8207280" y="3524400"/>
            <a:ext cx="86544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I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8209080" y="5540400"/>
            <a:ext cx="1224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NoI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209080" y="4500720"/>
            <a:ext cx="151128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E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095640" y="3132000"/>
            <a:ext cx="19447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ecast years 2 to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" descr=""/>
          <p:cNvPicPr/>
          <p:nvPr/>
        </p:nvPicPr>
        <p:blipFill>
          <a:blip r:embed="rId1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pic>
        <p:nvPicPr>
          <p:cNvPr id="810" name="" descr=""/>
          <p:cNvPicPr/>
          <p:nvPr/>
        </p:nvPicPr>
        <p:blipFill>
          <a:blip r:embed="rId2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pic>
        <p:nvPicPr>
          <p:cNvPr id="811" name="" descr=""/>
          <p:cNvPicPr/>
          <p:nvPr/>
        </p:nvPicPr>
        <p:blipFill>
          <a:blip r:embed="rId3"/>
          <a:stretch/>
        </p:blipFill>
        <p:spPr>
          <a:xfrm>
            <a:off x="142920" y="2781360"/>
            <a:ext cx="5113440" cy="3951360"/>
          </a:xfrm>
          <a:prstGeom prst="rect">
            <a:avLst/>
          </a:prstGeom>
          <a:ln w="0">
            <a:noFill/>
          </a:ln>
        </p:spPr>
      </p:pic>
      <p:sp>
        <p:nvSpPr>
          <p:cNvPr id="812" name=""/>
          <p:cNvSpPr/>
          <p:nvPr/>
        </p:nvSpPr>
        <p:spPr>
          <a:xfrm>
            <a:off x="216000" y="2639880"/>
            <a:ext cx="5184720" cy="34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obal TOA Excess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008000" y="6804000"/>
            <a:ext cx="871236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Increased Ocean Heat Uptake compensates for TOA in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89080" y="6624720"/>
            <a:ext cx="502920" cy="75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" descr=""/>
          <p:cNvPicPr/>
          <p:nvPr/>
        </p:nvPicPr>
        <p:blipFill>
          <a:blip r:embed="rId4"/>
          <a:srcRect l="7159" t="0" r="0" b="0"/>
          <a:stretch/>
        </p:blipFill>
        <p:spPr>
          <a:xfrm>
            <a:off x="5257800" y="2741760"/>
            <a:ext cx="4822920" cy="3990960"/>
          </a:xfrm>
          <a:prstGeom prst="rect">
            <a:avLst/>
          </a:prstGeom>
          <a:ln w="0">
            <a:noFill/>
          </a:ln>
        </p:spPr>
      </p:pic>
      <p:sp>
        <p:nvSpPr>
          <p:cNvPr id="816" name=""/>
          <p:cNvSpPr/>
          <p:nvPr/>
        </p:nvSpPr>
        <p:spPr>
          <a:xfrm>
            <a:off x="5256360" y="2627280"/>
            <a:ext cx="4824360" cy="34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obal Ocean Heat Upt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8207280" y="3524400"/>
            <a:ext cx="86544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I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8209080" y="5540400"/>
            <a:ext cx="1224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NoI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832360" y="5540400"/>
            <a:ext cx="1656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RAS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0" y="1090440"/>
            <a:ext cx="10080720" cy="11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at budget on those climate predictions to attribute the 2000-2010 global temperature plat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" descr=""/>
          <p:cNvPicPr/>
          <p:nvPr/>
        </p:nvPicPr>
        <p:blipFill>
          <a:blip r:embed="rId1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pic>
        <p:nvPicPr>
          <p:cNvPr id="822" name="" descr=""/>
          <p:cNvPicPr/>
          <p:nvPr/>
        </p:nvPicPr>
        <p:blipFill>
          <a:blip r:embed="rId2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008000" y="6804000"/>
            <a:ext cx="856764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Largest ever recorded peak in ocean heat upt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89080" y="6624720"/>
            <a:ext cx="502920" cy="75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3"/>
          <a:stretch/>
        </p:blipFill>
        <p:spPr>
          <a:xfrm>
            <a:off x="2232000" y="2722680"/>
            <a:ext cx="5616720" cy="434160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0" y="2195640"/>
            <a:ext cx="10080720" cy="90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obal Ocean Heat Upt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8207280" y="3524400"/>
            <a:ext cx="86544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I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8209080" y="5540400"/>
            <a:ext cx="1224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NoI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8209080" y="4500720"/>
            <a:ext cx="158436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RAS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0" y="1090440"/>
            <a:ext cx="10080720" cy="11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at budget on those climate predictions to attribute the 2000-2010 global temperature plat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584360" y="2286000"/>
            <a:ext cx="6912000" cy="480708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71280" y="2179800"/>
            <a:ext cx="1000944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AS4 Ocean heat uptake (0-800m excluding the mixed layer) at the onset of the plat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936720" y="6804000"/>
            <a:ext cx="907236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The plateau seems due to increased ocean heat absor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" descr=""/>
          <p:cNvPicPr/>
          <p:nvPr/>
        </p:nvPicPr>
        <p:blipFill>
          <a:blip r:embed="rId2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pic>
        <p:nvPicPr>
          <p:cNvPr id="835" name="" descr=""/>
          <p:cNvPicPr/>
          <p:nvPr/>
        </p:nvPicPr>
        <p:blipFill>
          <a:blip r:embed="rId3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sp>
        <p:nvSpPr>
          <p:cNvPr id="836" name=""/>
          <p:cNvSpPr/>
          <p:nvPr/>
        </p:nvSpPr>
        <p:spPr>
          <a:xfrm>
            <a:off x="0" y="1090440"/>
            <a:ext cx="10080720" cy="11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nalysis of these predictions to attribute the                  2000-2010 global temperature plat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89080" y="6624720"/>
            <a:ext cx="502920" cy="75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" descr=""/>
          <p:cNvPicPr/>
          <p:nvPr/>
        </p:nvPicPr>
        <p:blipFill>
          <a:blip r:embed="rId1"/>
          <a:stretch/>
        </p:blipFill>
        <p:spPr>
          <a:xfrm>
            <a:off x="71280" y="2627280"/>
            <a:ext cx="5185080" cy="4105440"/>
          </a:xfrm>
          <a:prstGeom prst="rect">
            <a:avLst/>
          </a:prstGeom>
          <a:ln w="0">
            <a:noFill/>
          </a:ln>
        </p:spPr>
      </p:pic>
      <p:sp>
        <p:nvSpPr>
          <p:cNvPr id="839" name=""/>
          <p:cNvSpPr/>
          <p:nvPr/>
        </p:nvSpPr>
        <p:spPr>
          <a:xfrm>
            <a:off x="936720" y="6804000"/>
            <a:ext cx="907236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Increased ocean heat uptake in the Pacific captured by I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" descr=""/>
          <p:cNvPicPr/>
          <p:nvPr/>
        </p:nvPicPr>
        <p:blipFill>
          <a:blip r:embed="rId2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pic>
        <p:nvPicPr>
          <p:cNvPr id="841" name="" descr=""/>
          <p:cNvPicPr/>
          <p:nvPr/>
        </p:nvPicPr>
        <p:blipFill>
          <a:blip r:embed="rId3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sp>
        <p:nvSpPr>
          <p:cNvPr id="842" name=""/>
          <p:cNvSpPr/>
          <p:nvPr/>
        </p:nvSpPr>
        <p:spPr>
          <a:xfrm>
            <a:off x="0" y="1090440"/>
            <a:ext cx="10080720" cy="11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nalysis of these predictions to attribute the                  2000-2010 global temperature plat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89080" y="6624720"/>
            <a:ext cx="502920" cy="75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" descr=""/>
          <p:cNvPicPr/>
          <p:nvPr/>
        </p:nvPicPr>
        <p:blipFill>
          <a:blip r:embed="rId4"/>
          <a:stretch/>
        </p:blipFill>
        <p:spPr>
          <a:xfrm>
            <a:off x="5013360" y="2627280"/>
            <a:ext cx="5211720" cy="4105440"/>
          </a:xfrm>
          <a:prstGeom prst="rect">
            <a:avLst/>
          </a:prstGeom>
          <a:ln w="0">
            <a:noFill/>
          </a:ln>
        </p:spPr>
      </p:pic>
      <p:sp>
        <p:nvSpPr>
          <p:cNvPr id="845" name=""/>
          <p:cNvSpPr/>
          <p:nvPr/>
        </p:nvSpPr>
        <p:spPr>
          <a:xfrm>
            <a:off x="289080" y="2411280"/>
            <a:ext cx="4679640" cy="47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RAS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5184720" y="2411280"/>
            <a:ext cx="4680000" cy="47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I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5011560" y="2627280"/>
            <a:ext cx="5212080" cy="4106880"/>
          </a:xfrm>
          <a:prstGeom prst="rect">
            <a:avLst/>
          </a:prstGeom>
          <a:ln w="0">
            <a:noFill/>
          </a:ln>
        </p:spPr>
      </p:pic>
      <p:pic>
        <p:nvPicPr>
          <p:cNvPr id="848" name="" descr=""/>
          <p:cNvPicPr/>
          <p:nvPr/>
        </p:nvPicPr>
        <p:blipFill>
          <a:blip r:embed="rId2"/>
          <a:stretch/>
        </p:blipFill>
        <p:spPr>
          <a:xfrm>
            <a:off x="71280" y="2627280"/>
            <a:ext cx="5185080" cy="410544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1368360" y="6804000"/>
            <a:ext cx="820728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Weak signals after ensemble-mean operator on NoI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" descr=""/>
          <p:cNvPicPr/>
          <p:nvPr/>
        </p:nvPicPr>
        <p:blipFill>
          <a:blip r:embed="rId3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pic>
        <p:nvPicPr>
          <p:cNvPr id="851" name="" descr=""/>
          <p:cNvPicPr/>
          <p:nvPr/>
        </p:nvPicPr>
        <p:blipFill>
          <a:blip r:embed="rId4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sp>
        <p:nvSpPr>
          <p:cNvPr id="852" name=""/>
          <p:cNvSpPr/>
          <p:nvPr/>
        </p:nvSpPr>
        <p:spPr>
          <a:xfrm>
            <a:off x="0" y="1090440"/>
            <a:ext cx="10080720" cy="11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nalysis of these predictions to attribute the                  2000-2010 global temperature plat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89080" y="6624720"/>
            <a:ext cx="502920" cy="75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89080" y="2411280"/>
            <a:ext cx="4679640" cy="47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RAS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5184720" y="2411280"/>
            <a:ext cx="4680000" cy="47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NoI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" descr=""/>
          <p:cNvPicPr/>
          <p:nvPr/>
        </p:nvPicPr>
        <p:blipFill>
          <a:blip r:embed="rId1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pic>
        <p:nvPicPr>
          <p:cNvPr id="857" name="" descr=""/>
          <p:cNvPicPr/>
          <p:nvPr/>
        </p:nvPicPr>
        <p:blipFill>
          <a:blip r:embed="rId2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sp>
        <p:nvSpPr>
          <p:cNvPr id="858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mmary of th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216000" y="2682720"/>
            <a:ext cx="9577440" cy="31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c-Earth climate predictions capture the temperature plateau until 5 years ahead. The realism of the SST trend along the forecast is improved  with initial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Earth’s heat budget shows that the TOA excess energy has been mainly absorbed in the ocean below the mixed layer at the onset of the platea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576360" y="5975280"/>
            <a:ext cx="94345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uemas V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, Doblas-Reyes F. J., Andreu-Burillo I., Asif M., 2013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rospective prediction of the global warming slowdown in the pas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ade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ature Climate Chan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doi : 10.1038/nclimate186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3280" y="2467080"/>
            <a:ext cx="9217080" cy="31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s there an inconsistency between projected global mean temperature and observed on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y do we observed such temperature plateau instead of a temperature increas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31640" y="3730680"/>
            <a:ext cx="928872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1800" spc="-1" strike="noStrike">
                <a:solidFill>
                  <a:srgbClr val="a50021"/>
                </a:solidFill>
                <a:latin typeface="Arial"/>
              </a:rPr>
              <a:t>Not within observational and model un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1800" spc="-1" strike="noStrike">
                <a:solidFill>
                  <a:srgbClr val="a50021"/>
                </a:solidFill>
                <a:latin typeface="Arial"/>
              </a:rPr>
              <a:t>The issue we focus o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" descr=""/>
          <p:cNvPicPr/>
          <p:nvPr/>
        </p:nvPicPr>
        <p:blipFill>
          <a:blip r:embed="rId1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pic>
        <p:nvPicPr>
          <p:cNvPr id="862" name="" descr=""/>
          <p:cNvPicPr/>
          <p:nvPr/>
        </p:nvPicPr>
        <p:blipFill>
          <a:blip r:embed="rId2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sp>
        <p:nvSpPr>
          <p:cNvPr id="863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iscussion : Back to the hypothe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216000" y="2124000"/>
            <a:ext cx="9361440" cy="50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 - Our simulations show negligible contribution from stratospheric water vapour feedb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B - Our simulations underestimate the background stratospheric aerosol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 - Additional sensitivity experiments show negligible sensitivity from the solar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 - Our simulations most probably underestimate the tropospheric anthropogenic aerosol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 - The increased ocean heat uptake stands as a possible explanation for only the first half of the decade according to our simul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1366920" y="3603600"/>
            <a:ext cx="756108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7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hank you very much for your att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irginie.guemas@ic3.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0" y="6426360"/>
            <a:ext cx="10080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is work was supported by the EU- funded SPECS project, under grant agreement 3083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" descr=""/>
          <p:cNvPicPr/>
          <p:nvPr/>
        </p:nvPicPr>
        <p:blipFill>
          <a:blip r:embed="rId1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pic>
        <p:nvPicPr>
          <p:cNvPr id="868" name="" descr=""/>
          <p:cNvPicPr/>
          <p:nvPr/>
        </p:nvPicPr>
        <p:blipFill>
          <a:blip r:embed="rId2"/>
          <a:stretch/>
        </p:blipFill>
        <p:spPr>
          <a:xfrm>
            <a:off x="144360" y="1022400"/>
            <a:ext cx="4103640" cy="1893960"/>
          </a:xfrm>
          <a:prstGeom prst="rect">
            <a:avLst/>
          </a:prstGeom>
          <a:ln w="0">
            <a:noFill/>
          </a:ln>
        </p:spPr>
      </p:pic>
      <p:pic>
        <p:nvPicPr>
          <p:cNvPr id="869" name="" descr=""/>
          <p:cNvPicPr/>
          <p:nvPr/>
        </p:nvPicPr>
        <p:blipFill>
          <a:blip r:embed="rId3"/>
          <a:stretch/>
        </p:blipFill>
        <p:spPr>
          <a:xfrm>
            <a:off x="5111640" y="971640"/>
            <a:ext cx="4896000" cy="220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1352520" y="1882800"/>
            <a:ext cx="7072200" cy="47577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027440" y="6908760"/>
            <a:ext cx="883872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Arial"/>
              </a:rPr>
              <a:t>What are the mechanisms behind the temperature plateau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0360" y="6875640"/>
            <a:ext cx="431640" cy="537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27640" y="3564000"/>
            <a:ext cx="1008000" cy="1511280"/>
          </a:xfrm>
          <a:prstGeom prst="rect">
            <a:avLst/>
          </a:prstGeom>
          <a:noFill/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ypothe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16000" y="2195640"/>
            <a:ext cx="9361440" cy="50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 - a decrease in the stratospheric water vapour concentration (Solomon, 20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B - an increase in the background stratospheric aerosol concentration (Solomon, 2013; Fyfe et al, 20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 - the deep and long solar minimum (Kaufmann et al., 2011; Hansen et al., 20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 - an increase in the tropospheric aerosol concentration (Kaufmann et al., 2011; Murphy, 20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 - an increase in the subsurface ocean heat uptake (Meehl et al, 2011; Katsman and Van Oldenborgh, 2011; Balmaseda et al, 20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 : Stratospheric water vapour de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985080" y="7002360"/>
            <a:ext cx="28796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Solomon et al.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3"/>
          <a:srcRect l="0" t="5208" r="0" b="0"/>
          <a:stretch/>
        </p:blipFill>
        <p:spPr>
          <a:xfrm>
            <a:off x="216000" y="1987560"/>
            <a:ext cx="9504360" cy="4384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224000" y="6529320"/>
            <a:ext cx="88567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Arial"/>
              </a:rPr>
              <a:t>Water vapour changes 1996-2000 -&gt; 2001-2005  explains about -0.1W.m</a:t>
            </a:r>
            <a:r>
              <a:rPr b="1" lang="en-GB" sz="2400" spc="-1" strike="noStrike" baseline="30000">
                <a:solidFill>
                  <a:srgbClr val="a50021"/>
                </a:solidFill>
                <a:latin typeface="Arial"/>
              </a:rPr>
              <a:t>-2</a:t>
            </a:r>
            <a:r>
              <a:rPr b="1" lang="en-GB" sz="2400" spc="-1" strike="noStrike">
                <a:solidFill>
                  <a:srgbClr val="a50021"/>
                </a:solidFill>
                <a:latin typeface="Arial"/>
              </a:rPr>
              <a:t>  (net forcing : ~0.5W.m</a:t>
            </a:r>
            <a:r>
              <a:rPr b="1" lang="en-GB" sz="2400" spc="-1" strike="noStrike" baseline="30000">
                <a:solidFill>
                  <a:srgbClr val="a50021"/>
                </a:solidFill>
                <a:latin typeface="Arial"/>
              </a:rPr>
              <a:t>-2</a:t>
            </a:r>
            <a:r>
              <a:rPr b="1" lang="en-GB" sz="2400" spc="-1" strike="noStrike">
                <a:solidFill>
                  <a:srgbClr val="a5002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0360" y="6732720"/>
            <a:ext cx="431640" cy="538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40000" y="1746360"/>
            <a:ext cx="53294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om observations and reanaly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3703800">
            <a:off x="5400000" y="3780000"/>
            <a:ext cx="1656000" cy="360360"/>
          </a:xfrm>
          <a:prstGeom prst="rightArrow">
            <a:avLst>
              <a:gd name="adj1" fmla="val 50000"/>
              <a:gd name="adj2" fmla="val 114885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 : Stratospheric aerosol in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985080" y="7002360"/>
            <a:ext cx="28796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Solomon et al.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1008000" y="1763640"/>
            <a:ext cx="8280360" cy="47181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224000" y="6529320"/>
            <a:ext cx="88567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Arial"/>
              </a:rPr>
              <a:t>Background stratospheric aerosol explains </a:t>
            </a:r>
            <a:r>
              <a:rPr b="1" lang="en-GB" sz="2400" spc="-1" strike="noStrike">
                <a:solidFill>
                  <a:srgbClr val="a50021"/>
                </a:solidFill>
                <a:latin typeface="Symbol"/>
                <a:ea typeface="Symbol"/>
              </a:rPr>
              <a:t></a:t>
            </a:r>
            <a:r>
              <a:rPr b="1" lang="en-GB" sz="2400" spc="-1" strike="noStrike">
                <a:solidFill>
                  <a:srgbClr val="a50021"/>
                </a:solidFill>
                <a:latin typeface="Arial"/>
              </a:rPr>
              <a:t> -0.1W.m</a:t>
            </a:r>
            <a:r>
              <a:rPr b="1" lang="en-GB" sz="2400" spc="-1" strike="noStrike" baseline="30000">
                <a:solidFill>
                  <a:srgbClr val="a50021"/>
                </a:solidFill>
                <a:latin typeface="Arial"/>
              </a:rPr>
              <a:t>-2</a:t>
            </a:r>
            <a:r>
              <a:rPr b="1" lang="en-GB" sz="2400" spc="-1" strike="noStrike">
                <a:solidFill>
                  <a:srgbClr val="a50021"/>
                </a:solidFill>
                <a:latin typeface="Arial"/>
              </a:rPr>
              <a:t>,  which was not accounted for in CMIP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60360" y="6732720"/>
            <a:ext cx="431640" cy="538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4360" y="4500720"/>
            <a:ext cx="151128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to et al, 19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1511280" y="3634920"/>
            <a:ext cx="14414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16000" y="2843280"/>
            <a:ext cx="122400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Arial"/>
              </a:rPr>
              <a:t>Amman et al,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1079640" y="3131640"/>
            <a:ext cx="1152360" cy="14292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480000" y="4932360"/>
            <a:ext cx="180036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Vernier et al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7056360" y="3492360"/>
            <a:ext cx="144720" cy="1511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736720" y="2700360"/>
            <a:ext cx="4608720" cy="792000"/>
          </a:xfrm>
          <a:custGeom>
            <a:avLst/>
            <a:gdLst/>
            <a:ahLst/>
            <a:rect l="l" t="t" r="r" b="b"/>
            <a:pathLst>
              <a:path w="2903" h="499">
                <a:moveTo>
                  <a:pt x="0" y="0"/>
                </a:moveTo>
                <a:cubicBezTo>
                  <a:pt x="170" y="11"/>
                  <a:pt x="340" y="22"/>
                  <a:pt x="544" y="45"/>
                </a:cubicBezTo>
                <a:cubicBezTo>
                  <a:pt x="748" y="68"/>
                  <a:pt x="1012" y="106"/>
                  <a:pt x="1224" y="136"/>
                </a:cubicBezTo>
                <a:cubicBezTo>
                  <a:pt x="1436" y="166"/>
                  <a:pt x="1625" y="211"/>
                  <a:pt x="1814" y="226"/>
                </a:cubicBezTo>
                <a:cubicBezTo>
                  <a:pt x="2003" y="241"/>
                  <a:pt x="2222" y="211"/>
                  <a:pt x="2358" y="226"/>
                </a:cubicBezTo>
                <a:cubicBezTo>
                  <a:pt x="2494" y="241"/>
                  <a:pt x="2539" y="271"/>
                  <a:pt x="2630" y="317"/>
                </a:cubicBezTo>
                <a:cubicBezTo>
                  <a:pt x="2721" y="363"/>
                  <a:pt x="2857" y="469"/>
                  <a:pt x="2903" y="499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 : Long solar minim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1224000" y="1835280"/>
            <a:ext cx="7489800" cy="43941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7777080" y="4572000"/>
            <a:ext cx="647640" cy="144360"/>
          </a:xfrm>
          <a:prstGeom prst="line">
            <a:avLst/>
          </a:prstGeom>
          <a:ln w="936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424720" y="4481640"/>
            <a:ext cx="15112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2. S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136000" y="2771640"/>
            <a:ext cx="19447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7703640" y="3059280"/>
            <a:ext cx="50508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44360" y="2411280"/>
            <a:ext cx="21592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1. Net anthropogenic for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44360" y="4859280"/>
            <a:ext cx="2232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990099"/>
                </a:solidFill>
                <a:latin typeface="Arial"/>
              </a:rPr>
              <a:t>Anthropogenic sulf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087640" y="5003640"/>
            <a:ext cx="649080" cy="144720"/>
          </a:xfrm>
          <a:prstGeom prst="line">
            <a:avLst/>
          </a:prstGeom>
          <a:ln w="93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087640" y="2987640"/>
            <a:ext cx="2736720" cy="7923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640720" y="1908000"/>
            <a:ext cx="1224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Linear tr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7561440" y="2411280"/>
            <a:ext cx="1079280" cy="2890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35640" y="2340000"/>
            <a:ext cx="1871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Sum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1 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40360" y="2771640"/>
            <a:ext cx="5047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616720" y="7002360"/>
            <a:ext cx="42480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Kaufmann et al.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224000" y="6529320"/>
            <a:ext cx="88567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Arial"/>
              </a:rPr>
              <a:t>Solar cycle minimum explains about -0.2W.m-2,  to be compared with ~0.5W.m-2 total forcing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60360" y="6732720"/>
            <a:ext cx="431640" cy="538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056360" y="4284720"/>
            <a:ext cx="576360" cy="216000"/>
          </a:xfrm>
          <a:custGeom>
            <a:avLst/>
            <a:gdLst/>
            <a:ahLst/>
            <a:rect l="l" t="t" r="r" b="b"/>
            <a:pathLst>
              <a:path w="363" h="136">
                <a:moveTo>
                  <a:pt x="0" y="0"/>
                </a:moveTo>
                <a:cubicBezTo>
                  <a:pt x="60" y="33"/>
                  <a:pt x="121" y="67"/>
                  <a:pt x="182" y="90"/>
                </a:cubicBezTo>
                <a:cubicBezTo>
                  <a:pt x="243" y="113"/>
                  <a:pt x="333" y="128"/>
                  <a:pt x="363" y="136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806560" y="1746360"/>
            <a:ext cx="53294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om observations and reco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ice</dc:creator>
  <dc:description/>
  <dc:language>en-US</dc:language>
  <cp:lastModifiedBy>IC3</cp:lastModifiedBy>
  <dcterms:modified xsi:type="dcterms:W3CDTF">2013-07-08T16:44:56Z</dcterms:modified>
  <cp:revision>372</cp:revision>
  <dc:subject/>
  <dc:title>Diapositiva 1</dc:title>
</cp:coreProperties>
</file>